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5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1D9-751A-48D9-842C-E74CCF29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436-0AF9-437C-A86C-F26AA6FC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C7B-5649-499E-9056-FCEE8864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653-B46B-42D5-BE91-5E876470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9BFCA-B3C9-4E27-A0A1-6D0764D8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21B38-7019-49AA-AFF1-6332A3D6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E22F8-4BC5-485F-A207-59855E50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3CA0E-BE53-4FA3-9BA2-B0D0192F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CD7F3-7288-4C72-94E4-2BE12E0F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56A16-8A99-4357-A429-2A77EC43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64A26-EC9C-49D5-BBEF-C77AD275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AB7-7738-4DE1-A064-78D6726E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19540-BBAB-4CC4-A74D-228409C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E797F-73A3-42DA-8978-5303F49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407D5-A54C-40D6-A64F-C12909CC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3C6C7-B3A8-424B-98AB-5E5D0602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13DA6-8738-4C58-B109-0F65C817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72E-78C4-4278-9AF2-67371109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05E-CECB-4516-A1EA-78126969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3BB-2C47-44F4-AFB5-5AC29F1B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EC0-3679-446C-B601-D61A53EF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E60-6978-4885-A8EE-E9433568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544-10DD-42E3-BF48-CB7543D1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319-8CFE-4FD2-BA25-F6239185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D750-CA47-4DC9-BBE1-044137019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D2DB-65D5-43D3-B9E9-93BA0B114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32000" y="2421000"/>
            <a:ext cx="611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skatulya-elv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Dirichlet-elv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4508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uzson Zoltán, Székelyudvarh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5640" y="765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cccc"/>
                </a:solidFill>
                <a:uFillTx/>
                <a:latin typeface="Comic Sans MS"/>
              </a:rPr>
              <a:t>4.példa</a:t>
            </a:r>
            <a:r>
              <a:rPr b="0" lang="en-US" sz="1800" spc="-1" strike="noStrike">
                <a:solidFill>
                  <a:srgbClr val="33cccc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Bizonyítsuk be, hogy bármely 3 egész szám között van 2, amelynek az összege pá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2276640"/>
            <a:ext cx="93672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á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76640"/>
            <a:ext cx="93672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árat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342900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ivel 2 skatulya van és 3 szám, ezért valamelyik skatulyában 2 szám kerül, és ezeknek az összege páros les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476280"/>
            <a:ext cx="76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Bizonyítsuk be, hogy bármely 5 egész szám között van 3, amelynek az összege osztható 3-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2133720"/>
            <a:ext cx="93672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2133720"/>
            <a:ext cx="93672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k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2133720"/>
            <a:ext cx="93672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k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3716280"/>
            <a:ext cx="7561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ost 3 skatulyánk van és 5 számun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a mindegyik skatulyában van 1-1 szám, akkor ennek a 3-nak az összege osztható 3-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a nincs mind a 3 skatulyából, akkor az 5 szám közül legalább 3 ugyanabba a skatulyában van, tehát ennek a háromnak az összege osztható 3-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90792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6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5 természetes szám. Bizonyítsuk be, hogy a számok közti különbségek közül legalább egy osztható 4-gyel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637000"/>
            <a:ext cx="748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lehetséges maradékok 4-gyel való osztás esetén 0, 1, 2 és 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ekintsünk 4 fiókot, hozzárendelve egy-egy osztási maradékho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katulya-elvből következik, hogy legalább 2 szám ugyanabba a fiókba fog kerüln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vel ezek 4-gyel való osztási maradéka megegyezik, a különbségük osztható lesz 4-gyel és így kész is a megold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4 természetes szám. Bizonyítsuk be, hogy közülük legalább kettő azonos maradékot ad 3-mal osztva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263700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lehetséges maradékok 3-mal történő osztás esetén 0, 1 és 2. Tekintsünk 3 fiókot, amik hozzá vannak rendelve a különböző maradékokhoz. Tegyük a 4 természetes számot a fiókokba a maradékaik szerint. Így a megoldás következik a skatulya-elv alapjá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486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Általában: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Ha  n egy természetes szám, akkor tetszőleges  n + 1 természetes szám közül kiválasztható kettő úgy, hogy a különbségük osztható legyen n-ne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765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8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osztályban 25 diák tanul.  Bizonyítsuk be, hogy közülük  legalább 3 ugyanabban a hónapban születet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2349360"/>
            <a:ext cx="77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ekintsünk  12 fiókot, azaz annyit,  amennyi hónap van egy évb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együk a diákokat a születési hónapok szerint a fiókokba! Aztán, mivel 25 &gt; 12 · 2, a skatulya-elvből következik, hogy az egyik fiókban legalább 2 + 1  = 3 diák van (ebben az esetben  n = 12 és k = 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76500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9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y dobozban 100 golyó van,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28 piro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c600"/>
                </a:solidFill>
                <a:latin typeface="Comic Sans MS"/>
              </a:rPr>
              <a:t>20 zöl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6699ff"/>
                </a:solidFill>
                <a:latin typeface="Comic Sans MS"/>
              </a:rPr>
              <a:t>20 ké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12 sárg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10 fehér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b2b2b2"/>
                </a:solidFill>
                <a:latin typeface="Comic Sans MS"/>
              </a:rPr>
              <a:t> feke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Legkevesebb hány golyót kell kivenni ahhoz, hogy biztosan legyen közöttük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10 egyszínű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2349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ézzük a legkedvezőtlenebb esetet vagyis azt, amikor mindegyikből éppen 9 lesz, az még nem felel meg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047320" y="3141720"/>
            <a:ext cx="4835160" cy="1160280"/>
            <a:chOff x="2047320" y="3141720"/>
            <a:chExt cx="4835160" cy="1160280"/>
          </a:xfrm>
        </p:grpSpPr>
        <p:grpSp>
          <p:nvGrpSpPr>
            <p:cNvPr id="150" name=""/>
            <p:cNvGrpSpPr/>
            <p:nvPr/>
          </p:nvGrpSpPr>
          <p:grpSpPr>
            <a:xfrm>
              <a:off x="2047320" y="3141720"/>
              <a:ext cx="4835160" cy="1160280"/>
              <a:chOff x="2047320" y="3141720"/>
              <a:chExt cx="4835160" cy="1160280"/>
            </a:xfrm>
          </p:grpSpPr>
          <p:sp>
            <p:nvSpPr>
              <p:cNvPr id="151" name=""/>
              <p:cNvSpPr/>
              <p:nvPr/>
            </p:nvSpPr>
            <p:spPr>
              <a:xfrm>
                <a:off x="204732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ahoma"/>
                  </a:rPr>
                  <a:t>2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2292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19968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600"/>
                    </a:solidFill>
                    <a:latin typeface="Tahoma"/>
                  </a:rPr>
                  <a:t>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7564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3640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ff"/>
                    </a:solidFill>
                    <a:latin typeface="Tahoma"/>
                  </a:rPr>
                  <a:t>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0004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cc00"/>
                    </a:solidFill>
                    <a:latin typeface="Tahoma"/>
                  </a:rPr>
                  <a:t>1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2076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3968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1056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7564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9492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51564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268360" y="3429000"/>
              <a:ext cx="4391280" cy="504720"/>
              <a:chOff x="2268360" y="3429000"/>
              <a:chExt cx="4391280" cy="504720"/>
            </a:xfrm>
          </p:grpSpPr>
          <p:sp>
            <p:nvSpPr>
              <p:cNvPr id="164" name=""/>
              <p:cNvSpPr/>
              <p:nvPr/>
            </p:nvSpPr>
            <p:spPr>
              <a:xfrm>
                <a:off x="226836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1964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5600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1964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4036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964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1042920" y="443700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ehát a skatulya elv alapján: 6×9+1= 55 golyót kell kivennün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katulyák ezúttal a SZÍNEK, és a tárgyak a GOLYÓ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765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y dobozban 100 golyó van,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28 piro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c600"/>
                </a:solidFill>
                <a:latin typeface="Comic Sans MS"/>
              </a:rPr>
              <a:t>20 zöl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6699ff"/>
                </a:solidFill>
                <a:latin typeface="Comic Sans MS"/>
              </a:rPr>
              <a:t>20 ké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12 sárg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10 fehér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b2b2b2"/>
                </a:solidFill>
                <a:latin typeface="Comic Sans MS"/>
              </a:rPr>
              <a:t> feke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Legkevesebb hány golyót kell kivenni ahhoz, hogy biztosan legyen közöttük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15 egyszínű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234936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ézzük a legkedvezőtlenebb esetet vagyis azt, amikor mindegyikből éppen 14 lesz, de ez a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sárga, fehér, fekete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színek esetén nem lehet, ott csak a maximumot vehetjük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47320" y="3573360"/>
            <a:ext cx="4908240" cy="1160280"/>
            <a:chOff x="2047320" y="3573360"/>
            <a:chExt cx="4908240" cy="1160280"/>
          </a:xfrm>
        </p:grpSpPr>
        <p:grpSp>
          <p:nvGrpSpPr>
            <p:cNvPr id="174" name=""/>
            <p:cNvGrpSpPr/>
            <p:nvPr/>
          </p:nvGrpSpPr>
          <p:grpSpPr>
            <a:xfrm>
              <a:off x="2047320" y="3573360"/>
              <a:ext cx="4908240" cy="1160280"/>
              <a:chOff x="2047320" y="3573360"/>
              <a:chExt cx="4908240" cy="1160280"/>
            </a:xfrm>
          </p:grpSpPr>
          <p:sp>
            <p:nvSpPr>
              <p:cNvPr id="175" name=""/>
              <p:cNvSpPr/>
              <p:nvPr/>
            </p:nvSpPr>
            <p:spPr>
              <a:xfrm>
                <a:off x="204732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ahoma"/>
                  </a:rPr>
                  <a:t>2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2004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9968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600"/>
                    </a:solidFill>
                    <a:latin typeface="Tahoma"/>
                  </a:rPr>
                  <a:t>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7276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3640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ff"/>
                    </a:solidFill>
                    <a:latin typeface="Tahoma"/>
                  </a:rPr>
                  <a:t>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0004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cc00"/>
                    </a:solidFill>
                    <a:latin typeface="Tahoma"/>
                  </a:rPr>
                  <a:t>1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2076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3968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0768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7312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9204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1276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68360" y="3860640"/>
              <a:ext cx="4391280" cy="504720"/>
              <a:chOff x="2268360" y="3860640"/>
              <a:chExt cx="4391280" cy="504720"/>
            </a:xfrm>
          </p:grpSpPr>
          <p:sp>
            <p:nvSpPr>
              <p:cNvPr id="188" name=""/>
              <p:cNvSpPr/>
              <p:nvPr/>
            </p:nvSpPr>
            <p:spPr>
              <a:xfrm>
                <a:off x="226836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1964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5600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21964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4036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5964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971640" y="5300640"/>
            <a:ext cx="7850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ehát a skatulya elv alapján: 3×14+12+2×10+1= 75 golyót kell kivennün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katulyák ezúttal a SZÍNEK, és a tárgyak a GOLYÓ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836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1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Mutassuk meg, hogy 5 darab 10-nél nagyobb prímszám közül mindig kiválasztható 2, amelyek különbsége osztható 10-z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2637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prímszámok végződései: 1, 3, 7, vagy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3860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ivel csak 4-féle végződés és 5 prímszám van, ezért létezik 2 amelyik ugyanarra a számjegyre végződik, tehát a különbségük osztható 10-z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4360" y="83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2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Mutassuk meg, hogy 7 darab négyzetszám közül mindig kiválasztható 2, amelyek különbsége osztható 10-z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2349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négyzetszámok végződései: 0, 1, 4, 5, 6 vagy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3429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ivel csak 6-féle végződés és 7 négyzetszámunk van, ezért létezik 2 amelyik ugyanarra a számjegyre végződik, tehát a különbségük osztható 10-z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40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3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Két villanyoszlop távolsága 50 m. A közöttük kifeszített vezetékre 26 fecske száll. Mutassuk ki, hogy mindig van legalább két fecske, melyeknek egymástól való távolsága nem nagyobb 2 m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2997360"/>
            <a:ext cx="8569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az oszlopok közötti huzalt 2 m-es szakaszokra, ezek lesznek a skatulyák (25 skatulya van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ivel 26 fecske száll a vezetékre, lesz olyan skatulya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2 m-es vezetékdarab), amelyre két fecske jut, és így a közöttük levő távolság nem nagyobb 2 m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1125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Ezt az elvet különböző országokban különbözőképpen nevezik. Például Franciaországban úgy ismerik, mint a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“fiókok elvét”,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Angliában mint a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“galambdúcok elvét”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míg Bulgáriában és Oroszországban mint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Dirichlet-elve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Az elv a nagy német matematikussal, Gustav Lejeune-Dirichlet-tel (1805 – 1859) áll kapcsolatban, bár már előtte is jól ismerték az elvet. Dirichlet érdeme nem az előbbi egyszerű tény felfedezése volt, hanem az alkalmazása számos érdekes probléma megoldásában a számelmélet teré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9640" y="40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4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kőbányából 50 kőtömböt kellett elszállítani. Ezek tömege rendre: 370, 372, 374,…, 466 kg. Rendelkezésünkre áll 7 teherautó, egyenként 3 tonna szállítási képességekkel. El lehet-e szállítani a kövek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492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Nézzük a kőtömbök össztömegét: 370+ 372+ 374+…+ 466 = </a:t>
            </a:r>
            <a:br>
              <a:rPr sz="1800"/>
            </a:b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= 370+(370+2)+(370+4)+…+(370+98)= 50×370+2×(1+2+3+…+49)= 209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3357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Látszatra úgy tűnik, hogy elszállítható, hiszen 20950 &lt; 21 000, de a kőtömbök tömegei 2 kg-mal változnak.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Ha homok lenne, biztosan elszállítható lenn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4581360"/>
            <a:ext cx="792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Mivel 50 kőtömb van és 7 teherautó, a skatulyaelv alapján 50=7×7+1 miatt éppen 8 fuvar szükséges, és a legkisebb nyolc kőtömb össztöme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370+372+374+376+378+380+382+384= 3016 kg  &gt; 3000 kg, vagyis nem férne fel a 3000 kg-os teherautó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00000" y="76500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5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50 pont van bejelölve egy 7 cm oldalhosszúságú négyzeten. Bizonyítsuk be, hogy a pontok közül legalább 2 lefedhető egy 1 cm oldalhosszúságú négyzettel!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2492280"/>
            <a:ext cx="49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az eredeti négyzetet 49 darab 1 cm oldalhosszúságú négyzetre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skatulya-elv alapján legalább 2 pont, az egyik 1 cm oldalhosszúságú négyzetbe fog es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5589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Így egy 1 oldalú négyzet lefedi a két ponto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012000" y="2637000"/>
            <a:ext cx="2520720" cy="2520720"/>
            <a:chOff x="6012000" y="2637000"/>
            <a:chExt cx="2520720" cy="2520720"/>
          </a:xfrm>
        </p:grpSpPr>
        <p:grpSp>
          <p:nvGrpSpPr>
            <p:cNvPr id="212" name=""/>
            <p:cNvGrpSpPr/>
            <p:nvPr/>
          </p:nvGrpSpPr>
          <p:grpSpPr>
            <a:xfrm>
              <a:off x="6012000" y="2637000"/>
              <a:ext cx="2520720" cy="2520720"/>
              <a:chOff x="6012000" y="2637000"/>
              <a:chExt cx="2520720" cy="2520720"/>
            </a:xfrm>
          </p:grpSpPr>
          <p:sp>
            <p:nvSpPr>
              <p:cNvPr id="213" name=""/>
              <p:cNvSpPr/>
              <p:nvPr/>
            </p:nvSpPr>
            <p:spPr>
              <a:xfrm>
                <a:off x="6012000" y="2637000"/>
                <a:ext cx="2520720" cy="2520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12000" y="306864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12000" y="342900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2000" y="378936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12000" y="414972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12000" y="451008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12000" y="479736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637236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3272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9308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5164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1200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7236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093080" y="3716280"/>
            <a:ext cx="71280" cy="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80360" y="3429000"/>
            <a:ext cx="7128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4360" y="47628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6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7×7-es négyzetet 49 kisnégyzetre osztunk, és a kisnégyzetek közül 43-t szeretnénk kékre festeni úgy, hogy sem egy 1×7-es sor sem egy 7×1-es oszlopban ne legyen teljesen kék. Lehetséges-e ez a színezé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724360" y="2565360"/>
            <a:ext cx="2521080" cy="2520720"/>
            <a:chOff x="5724360" y="2565360"/>
            <a:chExt cx="2521080" cy="2520720"/>
          </a:xfrm>
        </p:grpSpPr>
        <p:grpSp>
          <p:nvGrpSpPr>
            <p:cNvPr id="230" name=""/>
            <p:cNvGrpSpPr/>
            <p:nvPr/>
          </p:nvGrpSpPr>
          <p:grpSpPr>
            <a:xfrm>
              <a:off x="5724360" y="2565360"/>
              <a:ext cx="2520720" cy="2520720"/>
              <a:chOff x="5724360" y="2565360"/>
              <a:chExt cx="2520720" cy="252072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5724360" y="2565360"/>
                <a:ext cx="2520720" cy="2520720"/>
                <a:chOff x="5724360" y="2565360"/>
                <a:chExt cx="2520720" cy="25207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724360" y="2565360"/>
                  <a:ext cx="2520720" cy="2520720"/>
                </a:xfrm>
                <a:prstGeom prst="rect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24360" y="299700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724360" y="335736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724360" y="371772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24360" y="407808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724360" y="443844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724360" y="472572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608472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4508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0544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6400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2436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8472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724360" y="2565360"/>
              <a:ext cx="360360" cy="2158920"/>
            </a:xfrm>
            <a:prstGeom prst="rect">
              <a:avLst/>
            </a:prstGeom>
            <a:solidFill>
              <a:srgbClr val="33cccc">
                <a:alpha val="4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84720" y="2565360"/>
              <a:ext cx="360360" cy="1871640"/>
            </a:xfrm>
            <a:prstGeom prst="rect">
              <a:avLst/>
            </a:prstGeom>
            <a:solidFill>
              <a:srgbClr val="33cccc">
                <a:alpha val="4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4724280"/>
              <a:ext cx="360360" cy="36036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45080" y="2565360"/>
              <a:ext cx="360360" cy="1511280"/>
            </a:xfrm>
            <a:prstGeom prst="rect">
              <a:avLst/>
            </a:prstGeom>
            <a:solidFill>
              <a:srgbClr val="33cccc">
                <a:alpha val="5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5080" y="4437000"/>
              <a:ext cx="360360" cy="64764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05440" y="2565360"/>
              <a:ext cx="360360" cy="115092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05440" y="4076640"/>
              <a:ext cx="360360" cy="100800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65800" y="2565360"/>
              <a:ext cx="358920" cy="79236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5800" y="3716280"/>
              <a:ext cx="358920" cy="136836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24720" y="2565360"/>
              <a:ext cx="360360" cy="43200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4720" y="3357720"/>
              <a:ext cx="360360" cy="172692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85080" y="2997360"/>
              <a:ext cx="360360" cy="208728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900000" y="2637000"/>
            <a:ext cx="431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zínezés nyomán minden sorban illetve minden oszlopban kell legyen 1-1 nem színezett kisnégyzet, ez összesen 7 négyzet. Tehát legtöbb 7×7-7= 42 színezett négyzet lehet, ellenben nekünk 43 darab van, így egy sorban vagy oszlopban biztosan mindegyik kisnégyzet festett lesz, ellentmond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00000" y="76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z egység oldalú négyzetben adott 51 pont. Igazoljuk, hogy van közöttük 3 olyan, amelyek egy 1/7 sugarú körben vann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637000"/>
            <a:ext cx="47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Osszuk fel a négyzetet 5×5= 25 egybevágó kis négyzetre. Mivel 51=25×2+1 ezért a skatulya elv alapján létezik 3 olyan pont amelyik ugyanabba a kisnégyzetbe esik, amelynek az oldala 1/5 és az átló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084720" y="2637000"/>
            <a:ext cx="1943280" cy="1800000"/>
            <a:chOff x="6084720" y="2637000"/>
            <a:chExt cx="1943280" cy="1800000"/>
          </a:xfrm>
        </p:grpSpPr>
        <p:sp>
          <p:nvSpPr>
            <p:cNvPr id="262" name=""/>
            <p:cNvSpPr/>
            <p:nvPr/>
          </p:nvSpPr>
          <p:spPr>
            <a:xfrm>
              <a:off x="6948360" y="3213000"/>
              <a:ext cx="71640" cy="709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48360" y="3068280"/>
              <a:ext cx="71640" cy="71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92720" y="3141360"/>
              <a:ext cx="71640" cy="71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04000" y="2925360"/>
              <a:ext cx="504720" cy="502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084720" y="2637000"/>
              <a:ext cx="1943280" cy="1800000"/>
              <a:chOff x="6084720" y="2637000"/>
              <a:chExt cx="1943280" cy="18000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084720" y="2637000"/>
                <a:ext cx="1943280" cy="1800000"/>
                <a:chOff x="6084720" y="2637000"/>
                <a:chExt cx="1943280" cy="18000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084720" y="2637000"/>
                  <a:ext cx="1943280" cy="1800000"/>
                </a:xfrm>
                <a:prstGeom prst="rect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445080" y="2637000"/>
                  <a:ext cx="0" cy="180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77080" y="2637000"/>
                  <a:ext cx="0" cy="180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237440" y="2637000"/>
                  <a:ext cx="0" cy="180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596000" y="2637000"/>
                  <a:ext cx="0" cy="180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084720" y="2997000"/>
                <a:ext cx="194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84720" y="3357360"/>
                <a:ext cx="194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084720" y="3717720"/>
                <a:ext cx="194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84720" y="4078080"/>
                <a:ext cx="194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77" name=""/>
          <p:cNvGraphicFramePr/>
          <p:nvPr/>
        </p:nvGraphicFramePr>
        <p:xfrm>
          <a:off x="4859280" y="3716280"/>
          <a:ext cx="355680" cy="39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716280"/>
                    <a:ext cx="355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900000" y="479736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      &lt;2/7, akkor a négyzet lefedhető egy 1/7 sugarú körr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      &lt;2/7 ekvivalens azzal, hogy 49×2&lt;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32000" y="4797360"/>
          <a:ext cx="355680" cy="3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4797360"/>
                    <a:ext cx="355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332000" y="5229360"/>
          <a:ext cx="355680" cy="39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5229360"/>
                    <a:ext cx="355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4360" y="69228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8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szabályos háromszög alakú céltábla oldala 1m. A céltáblát 10 lövés érte. Igazoljuk, hogy van 2 olyan találat, amelyek 34 cm-nél közelebb vannak egymásho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43280" y="2276640"/>
            <a:ext cx="63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a háromszög oldalait 3-3 egyenlő részre, és párhuzamosokkal kössük össze ezeket a pontokat. Így az eredeti szabályos háromszöget 9 kongruens szabályos háromszögre osztottuk amelyeknek az oldalhossza 33 1/3 c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68360" y="2565360"/>
            <a:ext cx="2016000" cy="1800000"/>
            <a:chOff x="468360" y="2565360"/>
            <a:chExt cx="2016000" cy="1800000"/>
          </a:xfrm>
        </p:grpSpPr>
        <p:grpSp>
          <p:nvGrpSpPr>
            <p:cNvPr id="287" name=""/>
            <p:cNvGrpSpPr/>
            <p:nvPr/>
          </p:nvGrpSpPr>
          <p:grpSpPr>
            <a:xfrm>
              <a:off x="468360" y="2565360"/>
              <a:ext cx="2016000" cy="1800000"/>
              <a:chOff x="468360" y="2565360"/>
              <a:chExt cx="2016000" cy="1800000"/>
            </a:xfrm>
          </p:grpSpPr>
          <p:sp>
            <p:nvSpPr>
              <p:cNvPr id="288" name=""/>
              <p:cNvSpPr/>
              <p:nvPr/>
            </p:nvSpPr>
            <p:spPr>
              <a:xfrm>
                <a:off x="468360" y="2565360"/>
                <a:ext cx="2016000" cy="18000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7080" y="3789000"/>
                <a:ext cx="1366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16000" y="3212640"/>
                <a:ext cx="72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16000" y="3212640"/>
                <a:ext cx="648720" cy="115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57080" y="3789000"/>
                <a:ext cx="358560" cy="57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1116000" y="3212280"/>
                <a:ext cx="720360" cy="115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flipH="1">
              <a:off x="1764720" y="3789360"/>
              <a:ext cx="35892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11280" y="4869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ivel 10 találat van és csak 9 „skatulya” ezért létezik olyan kisháromszög, amelybe 2 találat került, és ezek legtávolabb egymástól 33 1/3 cm-re kerülhetnek, tehát a távolságuk kisebb mint 34 c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4360" y="69228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9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téglalap méretei 6 és 9 egység. Ha a téglalapot felbontjuk 10 darab egész oldalhosszúságú téglalapra, akkor igazoljuk, hogy ezek között van 2 egyenlő területű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042920" y="2708280"/>
            <a:ext cx="2665080" cy="1512360"/>
            <a:chOff x="1042920" y="2708280"/>
            <a:chExt cx="2665080" cy="1512360"/>
          </a:xfrm>
        </p:grpSpPr>
        <p:sp>
          <p:nvSpPr>
            <p:cNvPr id="298" name=""/>
            <p:cNvSpPr/>
            <p:nvPr/>
          </p:nvSpPr>
          <p:spPr>
            <a:xfrm>
              <a:off x="1042920" y="2708280"/>
              <a:ext cx="2665080" cy="1512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09640" y="2708280"/>
              <a:ext cx="0" cy="420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42920" y="3128760"/>
              <a:ext cx="66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09640" y="3128760"/>
              <a:ext cx="199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91120" y="2708280"/>
              <a:ext cx="0" cy="420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42920" y="3547800"/>
              <a:ext cx="26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1920" y="3128760"/>
              <a:ext cx="0" cy="41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25880" y="3128760"/>
              <a:ext cx="0" cy="41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42240" y="3547800"/>
              <a:ext cx="0" cy="67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75360" y="3547800"/>
              <a:ext cx="0" cy="67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91760" y="3547800"/>
              <a:ext cx="0" cy="67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24360" y="2637000"/>
            <a:ext cx="4751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Feltételezzük az ellenkezőjét vagyis, hogy a 10 darab téglalap mind különböző területű (egész szám). Ekkor ezek az összterülete nagyobb mint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1+2+3+4+5+6+7+8+9+10=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692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De a nagytéglalap területe 6×9=54&lt; 55, ezért ellentmondáshoz jutottu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537372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 skatulya elvnek ez a változata az úgynevezett INDIREKT bizonyít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11280" y="62064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Helyezzük el az 1-től 9-ig a számjegyeket tetszőleges sorrendben egy kör mentén. Bizonyítsuk be, hogy bármely sorrend esetén lesz a kör mentén három egymást követő szám, amelyek összege nagyobb, vagy egyenlő 15-t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2708280"/>
            <a:ext cx="5977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Feltételezzük az ellenkezőjét vagyis, hogy bármely egymást követő 3 szám összege &lt; 14-né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Tehát mind a 3 egymásutáni 3-as csoport &lt; 14, ezért az összegük KISEBB mint 3×14=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De most írjuk fel a 3 darab EGYMÁS UTÁNI 3-as csoport összegét, ez éppen: 1+2+3+4+5+6+7+8+9=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Mivel 42 &lt; 45, ezért ellentmondáshoz jutottunk, hiszen ugyanarról az összegről van sz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616572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z is a skatulya elvnek az indirekt formája vol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77080" y="2565360"/>
            <a:ext cx="1942920" cy="1798560"/>
            <a:chOff x="6877080" y="2565360"/>
            <a:chExt cx="1942920" cy="1798560"/>
          </a:xfrm>
        </p:grpSpPr>
        <p:sp>
          <p:nvSpPr>
            <p:cNvPr id="316" name=""/>
            <p:cNvSpPr/>
            <p:nvPr/>
          </p:nvSpPr>
          <p:spPr>
            <a:xfrm>
              <a:off x="7093080" y="2708280"/>
              <a:ext cx="1655640" cy="15127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67640" y="256536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17080" y="270828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32720" y="321300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3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4000" y="393372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4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56720" y="40766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5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24720" y="40766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6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93080" y="37893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7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7080" y="342900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8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64360" y="292428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9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4360" y="620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1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Hat osztálytárs részt vesz a “találjuk el a célt” versenyben. Mutassuk meg, hogy közülük legalább kettőnek azonos számú találata van, ha a találatok száma összesen 14.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6920" y="2492280"/>
            <a:ext cx="777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z összes olyan diákot, akinek 0 találata van, egy 0-ás címkéjű fiókba tesszük, az összes olyan diákot, akinek 1 találata van, egy 1-es címkéjű fiókba tesszük és így tovább, minden diákot, akinek 14 találata van, egy 14-es címkéjű fiókba teszün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Ha minden diák különböző fiókba esik, akkor az összes találatok száma nem kevesebb, mint 0 + 1 + 2 + 3 + 4 + 5 = 1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Ez ellentmond annak a feltételnek, hogy a találatok száma 1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Következésképpen legalább két osztálytársnak azonos számú találata kell legy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71640" y="6308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z is a skatulya elvnek az indirekt formája vol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042920" y="1197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 skatulya elv indirekt formá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2349360"/>
            <a:ext cx="7632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mikor nem sikerül bizonyítani direkt módon, hogy valamelyi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katulyában legalább 1-gyel több tárgy lesz mint a többibe, akko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agadjuk a konklúziót, és akkor a feltevéssel ellentmondásra jutun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mi abból adódik, hogy nem fogadtuk el a konklúzió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hogy egyik skatulyába legalább 2 tárgy van),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hát az állítás igaz kell legyen, miszerint egyik skatulyába legalább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-gyel több tárgy v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11280" y="62064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2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Igazoljuk, hogy egy 6 tagú társaságban létezik 3 személy amelyek barátok, vagy 3 akik idegenek! (A barátsági viszony kölcsönös, akárcsak az idegen viszon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2706840" cy="2952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51280" y="2349360"/>
            <a:ext cx="45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elöljük a 6 személyt a 6 karikával,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 éllel a bará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kék éllel az idege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viszonyt. Azt kell igazolnunk, hogy létezik egyszínű háromszög. Tekintsük a P1 ismeretségét a többi 5 személlyel. A skatulyaelv alapján 3 személy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vagy bará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vagy idege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mindhárom. Az általánosság csorbítása nélkül feltehető, P2, P3, P4 a P1-hez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 vonallal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kapcsolódi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400536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32000" y="3860640"/>
            <a:ext cx="1295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516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Figyeljük most a nyílakat a P2, P3 és P4 között. Ha valamelyik </a:t>
            </a:r>
            <a:r>
              <a:rPr b="0" lang="hu-HU" sz="1800" spc="-1" strike="noStrike">
                <a:solidFill>
                  <a:srgbClr val="ff3300"/>
                </a:solidFill>
                <a:latin typeface="Tahoma"/>
              </a:rPr>
              <a:t>piros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lenne, akkor kész. De ha egyik sem lehet piros, akkor mindhárom </a:t>
            </a:r>
            <a:r>
              <a:rPr b="0" lang="hu-HU" sz="1800" spc="-1" strike="noStrike">
                <a:solidFill>
                  <a:srgbClr val="6699ff"/>
                </a:solidFill>
                <a:latin typeface="Tahoma"/>
              </a:rPr>
              <a:t>kék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, így is kész </a:t>
            </a:r>
            <a:r>
              <a:rPr b="0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640" y="836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a van 9 doboz és 10 tárgy, akkor biztosan van LEGALÁBB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 doboz, amelyikben 2 tárgy va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4105080" cy="3353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5157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„legrosszabb” eset, ha mind a 9-ben van 1-1 tárgy, akkor a 10. biztos már egyik mellé kerül, ott 2 les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0000" y="76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23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Az egység sugarú kör kerületén elhelyeztünk 5 pontot. Igazoljuk, hogy van közöttük 2, amelyek távolsága nem nagyobb      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195640" y="1557360"/>
          <a:ext cx="430200" cy="38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557360"/>
                    <a:ext cx="430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971640" y="270828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a kör kerületét 4 egyenlő részre. Így 4 körívünk lesz, és 5 pont, ezért a skatulya elv alapján létezik 2 pont amelyik ugyanarra a negyed körívre jut, De ekkor a távolságuk nem nagyobb mi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5219640" y="4508640"/>
          <a:ext cx="430200" cy="3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4508640"/>
                    <a:ext cx="430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588000" y="2637000"/>
            <a:ext cx="1656000" cy="1584000"/>
            <a:chOff x="6588000" y="2637000"/>
            <a:chExt cx="1656000" cy="1584000"/>
          </a:xfrm>
        </p:grpSpPr>
        <p:grpSp>
          <p:nvGrpSpPr>
            <p:cNvPr id="345" name=""/>
            <p:cNvGrpSpPr/>
            <p:nvPr/>
          </p:nvGrpSpPr>
          <p:grpSpPr>
            <a:xfrm>
              <a:off x="6588000" y="2637000"/>
              <a:ext cx="1656000" cy="1584000"/>
              <a:chOff x="6588000" y="2637000"/>
              <a:chExt cx="1656000" cy="1584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588000" y="2637000"/>
                <a:ext cx="1656000" cy="1584000"/>
                <a:chOff x="6588000" y="2637000"/>
                <a:chExt cx="1656000" cy="1584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588000" y="2637000"/>
                  <a:ext cx="1656000" cy="1584000"/>
                </a:xfrm>
                <a:prstGeom prst="ellips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380360" y="2637000"/>
                  <a:ext cx="0" cy="1584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88000" y="3428640"/>
                  <a:ext cx="1656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 flipV="1">
                <a:off x="6588000" y="2637000"/>
                <a:ext cx="792360" cy="792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7451640" y="2924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04000" y="3429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53" name=""/>
            <p:cNvGraphicFramePr/>
            <p:nvPr/>
          </p:nvGraphicFramePr>
          <p:xfrm>
            <a:off x="6877080" y="2997360"/>
            <a:ext cx="430200" cy="384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77080" y="2997360"/>
                      <a:ext cx="4302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00000" y="76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24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Az egység sugarú kör kerületén elhelyeztünk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 pontot. Igazoljuk, hogy van közöttük 2, amelyek távolsága nem nagyobb      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284720" y="1484280"/>
          <a:ext cx="430200" cy="38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1484280"/>
                    <a:ext cx="430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971640" y="2421000"/>
            <a:ext cx="48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Rögzítsük a kör kerületén az egyik pontot, és így osszuk a kör kerületét 4 egyenlő részre. Így 4 körívünk lesz, és még 3 p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mennyiben valamelyik pont az 1. vagy 4. körívre jutnának, a feladat megoldot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443640" y="2421000"/>
            <a:ext cx="1800360" cy="1800000"/>
            <a:chOff x="6443640" y="2421000"/>
            <a:chExt cx="1800360" cy="1800000"/>
          </a:xfrm>
        </p:grpSpPr>
        <p:grpSp>
          <p:nvGrpSpPr>
            <p:cNvPr id="361" name=""/>
            <p:cNvGrpSpPr/>
            <p:nvPr/>
          </p:nvGrpSpPr>
          <p:grpSpPr>
            <a:xfrm>
              <a:off x="6443640" y="2421000"/>
              <a:ext cx="1800360" cy="1800000"/>
              <a:chOff x="6443640" y="2421000"/>
              <a:chExt cx="1800360" cy="180000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6588000" y="2637000"/>
                <a:ext cx="792360" cy="792000"/>
              </a:xfrm>
              <a:prstGeom prst="line">
                <a:avLst/>
              </a:prstGeom>
              <a:ln w="284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40720" y="3068640"/>
                <a:ext cx="142920" cy="144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40720" y="3716280"/>
                <a:ext cx="142920" cy="144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443640" y="2421000"/>
                <a:ext cx="1800360" cy="1800000"/>
                <a:chOff x="6443640" y="2421000"/>
                <a:chExt cx="1800360" cy="18000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236000" y="2637000"/>
                  <a:ext cx="142560" cy="1443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6443640" y="2421000"/>
                  <a:ext cx="1800360" cy="1800000"/>
                  <a:chOff x="6443640" y="2421000"/>
                  <a:chExt cx="1800360" cy="180000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6588000" y="2637000"/>
                    <a:ext cx="1656000" cy="1584000"/>
                    <a:chOff x="6588000" y="2637000"/>
                    <a:chExt cx="1656000" cy="158400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6588000" y="2637000"/>
                      <a:ext cx="1656000" cy="1584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7380360" y="2637000"/>
                      <a:ext cx="0" cy="1584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6588000" y="3428640"/>
                      <a:ext cx="165600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"/>
                  <p:cNvSpPr/>
                  <p:nvPr/>
                </p:nvSpPr>
                <p:spPr>
                  <a:xfrm>
                    <a:off x="7380360" y="3068640"/>
                    <a:ext cx="433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2.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020000" y="3068640"/>
                    <a:ext cx="433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1.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74" name=""/>
                  <p:cNvGraphicFramePr/>
                  <p:nvPr/>
                </p:nvGraphicFramePr>
                <p:xfrm>
                  <a:off x="6443640" y="2421000"/>
                  <a:ext cx="430200" cy="38412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375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6443640" y="2421000"/>
                            <a:ext cx="430200" cy="384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76" name=""/>
                  <p:cNvSpPr/>
                  <p:nvPr/>
                </p:nvSpPr>
                <p:spPr>
                  <a:xfrm>
                    <a:off x="7380360" y="3429000"/>
                    <a:ext cx="433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3.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948360" y="3429000"/>
                    <a:ext cx="433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4.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8" name=""/>
            <p:cNvSpPr/>
            <p:nvPr/>
          </p:nvSpPr>
          <p:spPr>
            <a:xfrm>
              <a:off x="6516720" y="3357720"/>
              <a:ext cx="14292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971640" y="537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De ha egy sem jut ezekbe, akkor van 3 pontunk és 2 másik körív. Ezért a skatulya elv alapján valamelyikre 2 pont kerül, és ekkor megint megoldottuk a feladat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84360" y="62064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5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Tekintsünk a gömb felületén 5 pontot. Igazoljuk, hogy létezik olyan félgömb – a határoló felületeket is beleértve – amelyik tartalmaz az 5 pont közül 4 ponto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84360" y="2349360"/>
            <a:ext cx="2303280" cy="2303640"/>
            <a:chOff x="684360" y="2349360"/>
            <a:chExt cx="2303280" cy="2303640"/>
          </a:xfrm>
        </p:grpSpPr>
        <p:sp>
          <p:nvSpPr>
            <p:cNvPr id="382" name=""/>
            <p:cNvSpPr/>
            <p:nvPr/>
          </p:nvSpPr>
          <p:spPr>
            <a:xfrm>
              <a:off x="684360" y="2349360"/>
              <a:ext cx="2303280" cy="230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4360" y="3286080"/>
              <a:ext cx="230328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647640" y="3177360"/>
              <a:ext cx="2303640" cy="647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4720" y="3646440"/>
              <a:ext cx="142920" cy="142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29080" y="3286080"/>
              <a:ext cx="142920" cy="142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16000" y="3070080"/>
              <a:ext cx="1429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24000" y="26384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68720" y="4078080"/>
              <a:ext cx="1429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419640" y="2349360"/>
            <a:ext cx="4897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ajzoljunk meg egy olyan „nagykört” amelyik átmegy az 5 pont közül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2 pont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 Ez a nagykör egy FELSŐ és egy ALSÓ félgömböt határoz meg. A skatulyaelv alapján, a többi 3 pont közül biztosan 2 vagy a felső, vagy az alsó félgömbön van. Legyen pl. a felső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kkor a felső félgömbön (a határfelületeket is beleértve), éppen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4 pon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les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55640" y="47628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26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Rajzoljunk meg a síkban 4 különböző egyenest, ezek a síkot diszjunkt tartományokra osztják. Igazoljuk, hogy bárhogyan veszünk fel 12 pontot az egyeneseken kívül, mindig lesz 2 olyan pont, amely ugyanabban a síktartományban vann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80000" y="263700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l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egtöbb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síktartományt akkor kapjuk, ha az egyenesek teljesen általános viszonyúak. Egy ilyen helyzet a mellékelt ábrán láthat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3058920" cy="20286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851280" y="3789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Ezek a síkot a legtöbb, 11 diszjunkt tartományra osztják. Mivel 12 pontunk van, ezért valamelyik tartományban van 2 po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755640" y="76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Tekintsünk az egységnyi oldalú szabályos háromszögben 37 pontot. Igazoljuk, hogy van közöttük 2 amelynek a távolsága kisebb mint 1/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3355920" cy="30844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356000" y="2565360"/>
            <a:ext cx="431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Osszuk fel a háromszög minden oldalát 6-6 egyenlő részre. Így a háromszöget összesen 36 darab 1/6 oldalú szabályos háromszögre osztottuk. A skatulya elv szerint, mivel 37 pontunk van, ezért egyik kis háromszögbe biztosan van legalább 2 pont, amelyek legtávolabb egymástól, egy oldal mentén lesznek, ami 1/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755640" y="69228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8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Határozzuk meg a királyok számának lehetséges legnagyobb számát egy közönséges sakktáblán úgy, hogy egyik sem üt egyetlen másik királyt s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16360" y="2060640"/>
            <a:ext cx="403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nden király legalább 4 mezőt ural. A király által uralt mezők száma akkor pontosan 4, ha a király a sakktábla négy csúcsának valamelyikén helyezkedik el (ellenkező esetben a király több mint 4 mezőt ural). Bontsuk fel a táblát 16 darab 2 х 2-es négyzetre. Következik, hogy nem lehetséges, 16-nál több királyt elhelyezni a feladat feltételei szerint mivel 2 király nem lehet egy és ugyanazon a 2  х 2-es négyzeten. Egy példa a 16 király elhelyezésére: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396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755640" y="692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9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ak az 1, 2, 3, …, 8, 9 számok. Kiválasztunk közülük 5-öt. Igazoljuk, hogy ezek között mindig van 2, amelyek relatív príme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71640" y="2276640"/>
            <a:ext cx="705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Ha az 1 is a kiválasztott, akkor az mindegyikkel relatív prím, tehát a feladatot megoldottu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Feltételezzük, hogy az 1-et nem választottuk ki. Ekkor képezzük a következő 4 skatulyá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92360" y="3933720"/>
            <a:ext cx="718920" cy="432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,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59280" y="3933720"/>
            <a:ext cx="718920" cy="432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00720" y="3933720"/>
            <a:ext cx="718920" cy="432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,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40360" y="3933720"/>
            <a:ext cx="719280" cy="432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,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486900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kkor a skatulyaelv alapján, a kiválasztott 5 szám közül biztosan lesz 2 amelyik ugyanabba a skatulyába kerül, vagyis éppen relatív príme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71640" y="40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ak az 1, 4, 7, …, 97, 100 számok. Kiválasztunk közülük 19-et. Igazoljuk, hogy ezek között mindig van 2, amelyek összege 104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71640" y="2276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kkor képezzük a következő 17 skatulyá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7636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,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2728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,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80000" y="2924280"/>
            <a:ext cx="71892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, 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8800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00000" y="371628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kkor a skatulyaelv alapján, a kiválasztott 19 szám közül biztosan lesz 2 amelyik ugyanabba a skatulyába kerül, vagyis az összegük éppen 1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177336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z előbbi sorozatnak (100-1):3= 33 tagja v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08720" y="2924280"/>
            <a:ext cx="71892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1,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88000" y="2924280"/>
            <a:ext cx="71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47636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,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62728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,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80000" y="2924280"/>
            <a:ext cx="71892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8472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,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0364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,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26920" y="62064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1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Mutasd meg, hogy 7 egész szám között mindig van 2, amelyeknek az összege vagy a különbsége osztható 11-gy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16436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68360" y="21337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11-gyel való osztási maradékokat csoportosítsuk í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9640" y="4005360"/>
            <a:ext cx="8353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zért a 7 szám közül 6 csoport valamelyikébe 2 kerü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a ennek a két számnak ugyanaz a végződése akkor különbségük osztható 11-gyel, ha nem, akkor az összegük osztható 11-gy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11280" y="62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2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z 1, 2, 3, …, 20 számok közül kiválasztunk 11-et. Mutassuk ki, hogy a kiválasztott számok között mindig van 2, amely közül egyik a másiknak az osztój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360" y="3789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{1, 2, 4, 8, 16}, {3, 6, 121}, {5, 10, 20}, {7, 14}, {9, 18},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{11}, {13}, {15}, {17}, {19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5280" y="21337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z 1, 2, 3, …, 20 számokat besoroljuk 10 csoportba amelyekre igaz, hogy ha valamelyik csoportból veszünk 2 számot, akkor az egyik a másiknak az osztój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vel 11 számunk és 10 osztályunk van, ezért létezik 2 a kért tulajdonságg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35280" y="1557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 skatulya elv (1. változ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2781360"/>
            <a:ext cx="903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 van </a:t>
            </a:r>
            <a:r>
              <a:rPr b="0" i="1" lang="en-US" sz="32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oboz és </a:t>
            </a:r>
            <a:r>
              <a:rPr b="0" i="1" lang="en-US" sz="3200" spc="-1" strike="noStrike">
                <a:solidFill>
                  <a:srgbClr val="ff3300"/>
                </a:solidFill>
                <a:latin typeface="Comic Sans MS"/>
              </a:rPr>
              <a:t>n+1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árg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kkor biztosan lesz legalább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1 doboz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melyikben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legalább 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árgy les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39640" y="8366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3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egy 3×3-as, 9 egység-négyzetből álló négyzet. Minden egység-négyzetbe a következő számok egyikét írjuk: -1, 0, vagy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Bizonyítsuk be, hogy a sorok, oszlopok és átlók összegei között van két egyenlő!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9640" y="3213000"/>
            <a:ext cx="828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 sorok száma 3, az  oszlopok  száma szintén 3, és az átlók száma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Így összesen 8 összegünk van. Másrészről a -1, 0, 1 számokból képezhető lehetséges összegek száma 7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 lehetséges összegek: -3, -2, -1, 0, 1, 2 vagy 3. Tekintsünk 7, egy-egy lehetséges összegnek megfelelő fiókot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 skatulya-elvből következik, hogy a sorok, oszlopok és átlók összesen 8 összegei közül legalább 2 egyenlő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9640" y="83664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4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egy 100×100-as, négyzet. Ennek minden mezőjébe beírjuk az 1, 2, 3 számok valamelyiké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Bizonyítsuk be, hogy a sorok, oszlopok és átlók összegei között van két egyenlő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9640" y="321300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A sorok száma 100, az  oszlopok  száma szintén 100, és az átlók száma 2. Így összesen 202 összegünk va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Másrészről az 1, 2, 3 számokból képezhető lehetséges összegek legkisebb értéke 100 (100×1) és a legnagyobb pedig 300 (100×3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A 100 és 300 között pontosan 300-100+1=201 szám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A skatulyaelv alapján 202&gt; 201, ezért létezik két egyforma össze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765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5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egységnyi élű kocka minden csúcsát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irossal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vagy </a:t>
            </a:r>
            <a:r>
              <a:rPr b="0" lang="en-US" sz="2400" spc="-1" strike="noStrike">
                <a:solidFill>
                  <a:srgbClr val="6699ff"/>
                </a:solidFill>
                <a:latin typeface="Comic Sans MS"/>
              </a:rPr>
              <a:t>kékkel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vagy </a:t>
            </a:r>
            <a:r>
              <a:rPr b="0" lang="en-US" sz="2400" spc="-1" strike="noStrike">
                <a:solidFill>
                  <a:srgbClr val="00c600"/>
                </a:solidFill>
                <a:latin typeface="Comic Sans MS"/>
              </a:rPr>
              <a:t>zölddel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színezzük ki. Bizonyítsuk be, hogy van 2 olyan egyszínű pont, amelyek távolsága nagyobb mint 1,4 egysé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26920" y="2637000"/>
            <a:ext cx="2305080" cy="2160360"/>
            <a:chOff x="826920" y="2637000"/>
            <a:chExt cx="2305080" cy="2160360"/>
          </a:xfrm>
        </p:grpSpPr>
        <p:grpSp>
          <p:nvGrpSpPr>
            <p:cNvPr id="437" name=""/>
            <p:cNvGrpSpPr/>
            <p:nvPr/>
          </p:nvGrpSpPr>
          <p:grpSpPr>
            <a:xfrm>
              <a:off x="900000" y="2708280"/>
              <a:ext cx="2160360" cy="2017440"/>
              <a:chOff x="900000" y="2708280"/>
              <a:chExt cx="2160360" cy="2017440"/>
            </a:xfrm>
          </p:grpSpPr>
          <p:sp>
            <p:nvSpPr>
              <p:cNvPr id="438" name=""/>
              <p:cNvSpPr/>
              <p:nvPr/>
            </p:nvSpPr>
            <p:spPr>
              <a:xfrm>
                <a:off x="900000" y="2708280"/>
                <a:ext cx="2160360" cy="2017440"/>
              </a:xfrm>
              <a:prstGeom prst="cube">
                <a:avLst>
                  <a:gd name="adj" fmla="val 25000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900000" y="4219560"/>
                <a:ext cx="50328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404720" y="2708280"/>
                <a:ext cx="0" cy="151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404720" y="4219560"/>
                <a:ext cx="165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2484360" y="4653000"/>
              <a:ext cx="14472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26920" y="46530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87640" y="4149720"/>
              <a:ext cx="144360" cy="14436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2000" y="4149720"/>
              <a:ext cx="144360" cy="14436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26920" y="31417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84360" y="3141720"/>
              <a:ext cx="14472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87640" y="2637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32000" y="2637000"/>
              <a:ext cx="144360" cy="14436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995640" y="2637000"/>
            <a:ext cx="482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Mivel 8 csúcs van és 3 szín, ezért a skatulyaelv alapján, mivel 8=3×2+2, létezik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egyforma színű csúcs, legyen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ez piros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Így a felső vagy alsó sík valamelyikébe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piros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ju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De ekkor a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3 piros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között biztosan van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amelyik egy négyzetátlónyi távolságra bvan egymástól, és ez &gt; 1,4 –né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11280" y="69228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6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Igazoljuk, hogy bármely </a:t>
            </a:r>
            <a:r>
              <a:rPr b="0" i="1" lang="en-US" sz="2400" spc="-1" strike="noStrike">
                <a:solidFill>
                  <a:srgbClr val="33cc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33cc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33cc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33cc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egész szám esetén a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osztható 7-te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524720" cy="5572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755640" y="2421000"/>
            <a:ext cx="78487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Egy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 egész számnak a 7-tel való osztási maradékai </a:t>
            </a:r>
            <a:br>
              <a:rPr sz="2000"/>
            </a:b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a {0, 1, 2, 3, 4, 5, 6} halmaz eleme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Az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xx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-nek a 7-tel való osztási maradékai a {0, 1, 2, 3, 4} halmaz eleme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Ha az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b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c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d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 számok valamelyike osztható 7-tel, akkor nyilván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E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  is osztható 7-tel. Más esetekben aa,bb,cc,dd az {1, 2, 4} halmaz elem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Így a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skatulyaelv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 alapján aa,bb,cc,dd számok közül biztosan létezik 2, amely ugyanazzal a számmal egyenlő, vagyis különbségük nu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4360" y="83664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Legyenek az  a, b, c, d, e, f és g az 1, 2, 3, 4, 5, 6, 7 számok permutációi. </a:t>
            </a:r>
            <a:br>
              <a:rPr sz="2400"/>
            </a:b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Igazoljuk, hogy az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a-1)(b-2)(c-3)(d-4)(e-5)(f-6)(g-7)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páros szá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26920" y="2781360"/>
            <a:ext cx="7704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Feltételezzük az ellenkezőjét: vagyis, hogy a szorzat páratlan, így mindegyik szorzótényezője párat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Tehát a-1, c-3, e-5, g-7 mind páratlanok, ezért a, c, e, g is </a:t>
            </a:r>
            <a:r>
              <a:rPr b="0" lang="hu-HU" sz="2400" spc="-1" strike="noStrike" u="sng">
                <a:solidFill>
                  <a:srgbClr val="ffcc00"/>
                </a:solidFill>
                <a:uFillTx/>
                <a:latin typeface="Comic Sans MS"/>
              </a:rPr>
              <a:t>mind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u-HU" sz="2400" spc="-1" strike="noStrike" u="sng">
                <a:solidFill>
                  <a:srgbClr val="ffcc00"/>
                </a:solidFill>
                <a:uFillTx/>
                <a:latin typeface="Comic Sans MS"/>
              </a:rPr>
              <a:t>párosok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lesznek, de 1, 2, 3, 4, 5, 6, 7  között a párosok csak 2, 4, 6 ami absurd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826920" y="907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8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gy szabályos húszszög csúcsai mind </a:t>
            </a:r>
            <a:r>
              <a:rPr b="0" lang="en-US" sz="1800" spc="-1" strike="noStrike">
                <a:solidFill>
                  <a:srgbClr val="33cccc"/>
                </a:solidFill>
                <a:latin typeface="Comic Sans MS"/>
              </a:rPr>
              <a:t>kékr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vagy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r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vannak festve. A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súcsok száma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kék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csúcsok száma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1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  Bizonyítsuk be, hogy  legalább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2 kék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csúcs átlósan ellentétesen helyezkedik el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2205000"/>
            <a:ext cx="720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fiókok most a szabályos húszszög körülírt körének a csúcsokat  tartalmazó átmérői leszne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nden átmérő  két ellentétes csúcsot köt össze. Minden fiók korlátolt – mindegyikük legfeljebb 2 pontot tartalmaz, amik az átmérők végei. Számuk 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ekintsük most azokat a fiókokat, amelyekben legalább  egy piros csúcs van. Számuk maximum 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vel összesen 10  fiók  van, ezért létezik egy fiók, amiben  nincsen piros csúc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nnek az átmérőnek a végpontjai kékek, és ezzel be is fejeztük a bizonyítá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55640" y="90792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9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dott 17 pont a síkon úgy, hogy semelyik három sem esik közülük egy egyenesre. Azok a szakaszok, amelyek ezeket a pontokat kötik össze,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kék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vagy </a:t>
            </a:r>
            <a:r>
              <a:rPr b="0" lang="en-US" sz="1800" spc="-1" strike="noStrike">
                <a:solidFill>
                  <a:srgbClr val="00c600"/>
                </a:solidFill>
                <a:latin typeface="Comic Sans MS"/>
              </a:rPr>
              <a:t>zöl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színűek. Bizonyítsuk be, hogy létezik olyan  háromszög, amelynek csúcsai a  megadott pontok közül kerülnek ki, és a háromszög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egyszínű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278136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Válasszuk ki az egyik pontot és  jelöljük el A-val!  Most tekintsük a 16 szakaszt, ami A-ból indul! A skatulya-elvből következik, hogy közülük legalább 6 azonos színű, például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kék 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(ha legfeljebb 5 azonos színű szakasz van köztük, akkor összesen legfeljebb 3 × 5 = 15 szakaszunk lenne, ami ellentmond a 16-nak). Továbbá tekintsük a 6, A-tól különböző végét a 6 szakasznak! Ha az őket összekötő szakaszok egyikeke, például a B és C pontok között, akkor az ABC háromszög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kék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és készen vagyunk. Tekintsük azt az esetet, mikor a 6 pontot összekötő minden szakasz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vagy </a:t>
            </a:r>
            <a:r>
              <a:rPr b="0" lang="en-US" sz="1800" spc="-1" strike="noStrike">
                <a:solidFill>
                  <a:srgbClr val="00c600"/>
                </a:solidFill>
                <a:latin typeface="Comic Sans MS"/>
              </a:rPr>
              <a:t>zöld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.  Ez a feltétel már az előző feladathoz vezet vissza és így következik belőle egy egyszínű háromszög létezé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00000" y="83664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osztályteremben 15 asztal van és minden asztal mellett két szék. 22 diák van jelen a matematika órán. Bizonyítsuk be, hogy legalább 7 asztalnál párosan ülnek a diákok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71640" y="3357720"/>
            <a:ext cx="72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Most az asztalok a fiókok, amik korlátozottak, mivel legfeljebb kettő diák ülhet egy asztalná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Ha minden asztalnál csak egy diák foglal helyet, akkor a visszamaradó 7 diáknak (22 – 15 = 7) 7 asztalhoz kell ülnie, így 7 asztalnál fognak párosan ül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11280" y="907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1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193 szúnyog ül egy téglalap alakú, 3 m × 2 m kiterjedésű füves területen. Meg lehet-e ölni egyszerre legalább 3 szúnyogot egy 25 cm × 25 cm-es lapáttal?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314172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válasz igen. Elegendő a területet 96 darab 25 cm × 25 cm-es négyzetre oszta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skatulya-elv alapján  az egyik ilyen négyzeten legalább 3 szúnyog fog ül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zután már csak pontosan el kell eltalálni azt a négyzetet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76500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2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40 diák versenyzik 6 feladat megoldásán egy kétnapos matematikai olimpián. Bizonyítsuk be, hogy közülük legalább hat ugyanannyi feladatot oldott meg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4360" y="2708280"/>
            <a:ext cx="799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Tekintsünk 7 fiókot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Tegyük az elsőbe azokat a diákokat, akik egy feladatot sem oldottak meg, tegyük  a másodikba azokat, akik 1 feladatot oldottak meg, tegyük a harmadikba azokat, akik 2 feladatot oldottak meg, és  így tovább, tegyük a hetedikbe azokat, akik 6 feladatot oldottak meg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Eszerint 40 &gt; 7⋅5 = 35 ésebből a skatulya-elv szerint következik, hogy lesz olyan fiók, amibe 6 diák kerül.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836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a van 6 doboz és 13 tárgy, akkor biztosan van LEGALÁBB 1 doboz, amelyikben 3 tárgy va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21300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5636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5164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292428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328464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299736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321300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292428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3213000"/>
            <a:ext cx="28764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292428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321300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2924280"/>
            <a:ext cx="28764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321300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85080" y="292428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08720" y="1628640"/>
            <a:ext cx="287640" cy="287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3860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472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653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egrosszabb esetben” minden dobozba jut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13:6=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marad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á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30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őször minden dobozba tegyünk 1-1 golyót, aztán a 2. golyókat egyesé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826920" y="549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3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egy 5 × 5-ös négyzet, ami 25 egységnégyzetre van osztva. Tetszőleges módon 26 pont van bejelölve a négyzeten. Mutassuk meg, hogy legalább két pont azonos egységnégyzetre fog esni!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4360" y="249228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Ebben a feladatban az egységnégyzetek szolgálnak fiókokké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Ha minden fiókban legfeljebb egy pont van, akkor összesen legfeljeb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1 × 25 = 25 pont van. De a pontok száma 26 és 26 &gt; 2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Így a skatulya-elvből következik, hogy egy négyzetbe legalább 2 pont kerü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84360" y="83664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4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101 pont van elhelyezve egy 10 cm oldalhosszúságú négyzeten. Bizonyítsuk be, hogy van két olyan pont, amelyek távolsága kevesebb, mint 2 c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8360" y="2421000"/>
            <a:ext cx="842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Kihasználhatjuk, hogy a négyzet egymástól legtávolabb lévő pontjai az átfogók vége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Osszuk fel a megadott négyzetet 100 kisebb, 1 cm oldalhosszúságú négyzet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Így most a 100 kisebb négyzet lesz a 100 fiók, és így a skatulya-elvből következik, hogy legalább két pont egy kis négyzetbe fog esn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Tekintsünk két ilyen pontot. A közöttük levő távolság kisebb mint a négyzet átlója, az-az 1,418…&lt;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755640" y="62064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5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dott 7 pont egy 16 egység-négyzetből álló négyzeten. Bizonyítsuk be, hogy vagy van olyan 4 egység-négyzetből álló négyzet, ami 3 pontot tartalmaz legalább, vagy van olyan 3, összesen 12 egység-négyzetből álló négyzet, úgy hogy mindegyik 4 egység-négyzetből áll és mindegyik legalább 2 pontot tartalma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55640" y="242100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Osszuk fel az eredeti négyzetet 4 darab 2×2-es négyzetre! Ez a 4 négyzet fog most fiókként szolgálni. A skatulya-elv szerint legalább az egyikük nem kevesebb, mint 2 pontot tartalmaz. Ha több mint 2 pontot tartalmaz, akkor készen vagyunk. Legyen a pontok száma pontosan 2! A visszamaradó 5 pont a másik 3 darab 2×2-es négyzetben helyezkedik el. A skatulya-elv szerint megint legalább az egyikük nem kevesebb, mint 2 pontot tartalmaz. Ha több mint 2 pontot tartalmaz, akkor készen vagyunk. Ellenkező esetben a pontok száma pontosan 2. Így 2 dar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2×2-es  négyzetünk van, és mindegyik 2 pontot tartalmaz. A visszamaradó 3 pont a maradék 2 darab 2×2-es négyzetben helyezkedik el. Használjuk a skatulya-elvet harmadszorra is! Így következik, hogy a négyzetek egyike nem kevesebb, mint 2 pontot tartalmaz. Ha  a pontok száma 3, készen vagyunk. Ha a pontok száma 2, akkor megkaptuk a harmadik 2×2-es négyzetet is, ami 2 pontot tartalma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4360" y="549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6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gyen a, b és c három egész szám! Bizonyítsuk be, hogy az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c(b - a)(c - a)(c - b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zorzat osztható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tal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11280" y="227664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zorzat utolsó három tényezője a három számból minden lehetséges módon kiválasztható párok különbség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három egész szám közül legalább kettő azonos paritású, ezért a különbségek egyike biztosan páros, azaz a szorzat osztható 2-ve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ovábbá, ha legalább az egyik egész szám osztható 3-mal, a szorzat is osztható 3-mal, ellenkező esetben (ha egyik szám sem osztható hárommal) lesz két olyan szám, amelyek 3-mal osztva azo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(1-es vagy 2-es) maradékot adnak, és így a különbségük lesz osztható 3-mal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84360" y="83664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Legyenek az  a, b, c  és  d  számok egész számok. Bizonyítsuk be, hogy a következő szorzat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b – a)(c – a)(d – a)(c – b)(d – b)(d – c)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osztható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-vel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6920" y="2349360"/>
            <a:ext cx="784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 fentebb felírt szorzat 6 tényezője a 4 egész számból minden lehetséges módon képezett párokból á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 skatulya-elv értelmében a négy szám közül legalább kettőnek megegyezik a 3-mal való osztási maradékaik. Így a különbségük 3 többszörö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Ezután vagy legalább 3 szám azonos paritású, és ebben az esetben 3 különbség páros, vagy a 4 szám olyan, hogy közülük kettő páros és kettő páratl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39640" y="40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8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Hét ember egyszerre vásárol egy boltban. Bizonyítsuk be, hogy közülük legalább kettőnek azonos számú ismerősük van többiek közü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8360" y="1916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nden embernek 0, 1, 2, 3, 4, 5 vagy 6 ismerőse van a többiek közül a boltban. De ha van egy ember 0 ismerőssel, azaz senkit sem ismer a boltban, akkor a reflexivitás miatt nem lehet senkinek sem 6 ismerőse a boltban. Így az ismerősök számától függően minden ember 6 csoportba osztható be, azaz 6 fiókba helyezhető el. Két eset lehetséges, tekintsük a csoportokat egy lehetséges rendezés, az ismerősök számának a növekvő sorrendje szerint. Az első esetben a 0 ismerőssel rendelkező emberek esnek az első csoportba, az 1 ismerőssel rendelkező emberek esnek a második csoportba, és így tovább 2 ismerős - a harmadik csoport, 3 ismerős - a negyedik csoport, 4 ismerős – az ötödik csoport, és 5 ismerős - a hatodik csoport. A második esetben az 1 ismerőssel rendelkező emberek esnek az első csoportba, 2 ismerőssel rendelkező emberek esnek a második csoportba, és így tovább, 3 ismerős – harmadik csoport, 4 ismerős – negyedik csoport, 5 ismerős – ötödik csoport, és 6 ismerős – a hatodik csoport.  Mindkét esetben a csoportok száma 6, míg a vásárlók száma 7. Így a megoldás következik a skatulya-elvbő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95280" y="404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9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Tizenhat csapat játszik egy futball versenyen, ahol mindenki játszik mindenki ellen. Bizonyítsuk be, hogy minden meccs után van legalább két csapat, akik ugyanannyi meccset játszottak.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8360" y="2421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z előző problémához hasonló módon elegendő észrevenni, hogy amennyiben van egy csapat, aki 0 meccset játszott, akkor nem lehet olyan csapat, aki 15 meccset játszott. Ebből következik, hogy 15 fiókot tekinthetünk, a meccsek száma szerint. Ezután már elegendő használni a skatulya-elvet. Mint az előző feladatnál is, a résztvevő csapatok száma itt sem fo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4797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 fenti probléma egy egyedi esete az úgy nevezett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“ismerősök problémának”, ami szerint:  </a:t>
            </a:r>
            <a:br>
              <a:rPr sz="1800"/>
            </a:br>
            <a:r>
              <a:rPr b="0" i="1" lang="en-US" sz="1800" spc="-1" strike="noStrike">
                <a:solidFill>
                  <a:srgbClr val="ff3300"/>
                </a:solidFill>
                <a:latin typeface="Comic Sans MS"/>
              </a:rPr>
              <a:t>Minden  n emberből álló csoportban esetén létezik legalább két ember, akiknek azonos számú ismerősük van a többiek között a csoport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900000" y="76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z egység sugarú körlapon elhelyeztünk 7 pontot. Igazoljuk, hogy van közöttük 2, amelyek távolsága nem nagyobb 1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71640" y="270828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a kör kerületét 6 egyenlő részre. Így 6 körcikkünk lesz, és 7 pont, ezért a skatulya elv alapján létezik 2 pont amelyik ugyanabba a hatod körcikkbe jut, De ekkor a távolságuk nem nagyobb mint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443640" y="2492280"/>
            <a:ext cx="1584360" cy="1801800"/>
            <a:chOff x="6443640" y="2492280"/>
            <a:chExt cx="1584360" cy="1801800"/>
          </a:xfrm>
        </p:grpSpPr>
        <p:grpSp>
          <p:nvGrpSpPr>
            <p:cNvPr id="486" name=""/>
            <p:cNvGrpSpPr/>
            <p:nvPr/>
          </p:nvGrpSpPr>
          <p:grpSpPr>
            <a:xfrm>
              <a:off x="6443640" y="2492280"/>
              <a:ext cx="1584360" cy="1801800"/>
              <a:chOff x="6443640" y="2492280"/>
              <a:chExt cx="1584360" cy="180180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6443640" y="2781360"/>
                <a:ext cx="1584360" cy="1512720"/>
                <a:chOff x="6443640" y="2781360"/>
                <a:chExt cx="1584360" cy="15127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443640" y="2781360"/>
                  <a:ext cx="1584360" cy="1512720"/>
                </a:xfrm>
                <a:prstGeom prst="ellipse">
                  <a:avLst/>
                </a:prstGeom>
                <a:solidFill>
                  <a:srgbClr val="33cccc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236000" y="2781360"/>
                  <a:ext cx="0" cy="1511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588000" y="3068640"/>
                  <a:ext cx="1297080" cy="936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6516720" y="3141360"/>
                  <a:ext cx="1368360" cy="718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>
                <a:off x="6588000" y="24922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64360" y="29242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88000" y="314172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 flipV="1">
              <a:off x="6588000" y="2781360"/>
              <a:ext cx="64800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71640" y="2421000"/>
            <a:ext cx="4895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Rögzítsük a kör kerületén az egyik pontot, és így osszuk a kört 6 egyenlő részre. Így 6 körívünk lesz, és még 5 p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mennyiben valamelyik pont valamelyik szomszédos körcikkbe jutnának, a feladat megoldot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71640" y="537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De ha egy sem jut ezekbe, akkor van 5 pontunk és 4 másik körcikk. Ezért a skatulya elv alapján valamelyikre 2 pont kerül, és ekkor megint megoldottuk a feladat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16000" y="76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1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z egység sugarú körlapon elhelyeztünk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pontot. Igazoljuk, hogy van közöttük 2, amelyek távolsága nem nagyobb 1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804000" y="2133720"/>
            <a:ext cx="1584360" cy="1801800"/>
            <a:chOff x="6804000" y="2133720"/>
            <a:chExt cx="1584360" cy="1801800"/>
          </a:xfrm>
        </p:grpSpPr>
        <p:grpSp>
          <p:nvGrpSpPr>
            <p:cNvPr id="501" name=""/>
            <p:cNvGrpSpPr/>
            <p:nvPr/>
          </p:nvGrpSpPr>
          <p:grpSpPr>
            <a:xfrm>
              <a:off x="6804000" y="2133720"/>
              <a:ext cx="1584360" cy="1801800"/>
              <a:chOff x="6804000" y="2133720"/>
              <a:chExt cx="1584360" cy="180180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6804000" y="2133720"/>
                <a:ext cx="1584360" cy="1801800"/>
                <a:chOff x="6804000" y="2133720"/>
                <a:chExt cx="1584360" cy="1801800"/>
              </a:xfrm>
            </p:grpSpPr>
            <p:grpSp>
              <p:nvGrpSpPr>
                <p:cNvPr id="503" name=""/>
                <p:cNvGrpSpPr/>
                <p:nvPr/>
              </p:nvGrpSpPr>
              <p:grpSpPr>
                <a:xfrm>
                  <a:off x="6804000" y="2422800"/>
                  <a:ext cx="1584360" cy="1512720"/>
                  <a:chOff x="6804000" y="2422800"/>
                  <a:chExt cx="1584360" cy="151272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6804000" y="2422800"/>
                    <a:ext cx="1584360" cy="1512720"/>
                  </a:xfrm>
                  <a:prstGeom prst="ellipse">
                    <a:avLst/>
                  </a:prstGeom>
                  <a:solidFill>
                    <a:srgbClr val="33cccc"/>
                  </a:solidFill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596360" y="2422800"/>
                    <a:ext cx="0" cy="151128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948360" y="2710080"/>
                    <a:ext cx="1297080" cy="9367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V="1">
                    <a:off x="6877080" y="2782800"/>
                    <a:ext cx="1368360" cy="718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8" name=""/>
                <p:cNvSpPr/>
                <p:nvPr/>
              </p:nvSpPr>
              <p:spPr>
                <a:xfrm>
                  <a:off x="6948360" y="2133720"/>
                  <a:ext cx="433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3300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524720" y="256572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48360" y="278316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6877080" y="2421000"/>
                <a:ext cx="1440000" cy="1368360"/>
                <a:chOff x="6877080" y="2421000"/>
                <a:chExt cx="1440000" cy="13683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885080" y="2637000"/>
                  <a:ext cx="144360" cy="144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172360" y="3068640"/>
                  <a:ext cx="144720" cy="144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667640" y="3645000"/>
                  <a:ext cx="144360" cy="144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164360" y="3500280"/>
                  <a:ext cx="14436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6948360" y="2421000"/>
                  <a:ext cx="648000" cy="2872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6877080" y="2708280"/>
                  <a:ext cx="71280" cy="792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6877080" y="2637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84360" y="83664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2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Legyenek az  a, b, c, d, e, f, g, h és i az 1, 2, 3, 4, 5, 6, 7, 8, 9 számok permutációi. Igazoljuk, hogy az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a-1)(b-2)(c-3)(d-4)(e-5)(f-6)(g-7)(h-8)(i-9)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páros szá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26920" y="2781360"/>
            <a:ext cx="7704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Feltételezzük az ellenkezőjét: vagyis, hogy a szorzat páratlan, így mindegyik szorzótényezője párat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Tehát a-1, c-3, e-5, g-7, i-9 mind páratlanok, ezért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a,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c, e, g, i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is </a:t>
            </a:r>
            <a:r>
              <a:rPr b="0" lang="hu-HU" sz="2400" spc="-1" strike="noStrike" u="sng">
                <a:solidFill>
                  <a:srgbClr val="ffcc00"/>
                </a:solidFill>
                <a:uFillTx/>
                <a:latin typeface="Comic Sans MS"/>
              </a:rPr>
              <a:t>mind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u-HU" sz="2400" spc="-1" strike="noStrike" u="sng">
                <a:solidFill>
                  <a:srgbClr val="ffcc00"/>
                </a:solidFill>
                <a:uFillTx/>
                <a:latin typeface="Comic Sans MS"/>
              </a:rPr>
              <a:t>párosok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lesznek, de 1, 2, 3, 4, 5, 6, 7, 8 , 9  között a párosok csak 2, 4, 6, 8 ami csak </a:t>
            </a:r>
            <a:r>
              <a:rPr b="0" lang="hu-HU" sz="2400" spc="-1" strike="noStrike" u="sng">
                <a:solidFill>
                  <a:srgbClr val="ffcc00"/>
                </a:solidFill>
                <a:uFillTx/>
                <a:latin typeface="Comic Sans MS"/>
              </a:rPr>
              <a:t>négy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szám, absurd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835280" y="1557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 skatulya elv (2. változ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8000" y="2492280"/>
            <a:ext cx="903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 van </a:t>
            </a:r>
            <a:r>
              <a:rPr b="0" i="1" lang="en-US" sz="32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oboz és </a:t>
            </a:r>
            <a:r>
              <a:rPr b="0" i="1" lang="en-US" sz="3200" spc="-1" strike="noStrike">
                <a:solidFill>
                  <a:srgbClr val="ff3300"/>
                </a:solidFill>
                <a:latin typeface="Comic Sans MS"/>
              </a:rPr>
              <a:t>n×k+r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 (r&gt;0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árg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kkor biztosan lesz legalább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1 doboz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melyikben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legalább k+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árgy les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55166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ff"/>
                </a:solidFill>
                <a:uFillTx/>
                <a:latin typeface="Tahoma"/>
              </a:rPr>
              <a:t>Másképpen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: Ha </a:t>
            </a:r>
            <a:r>
              <a:rPr b="0" i="1" lang="hu-HU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tárgyat osztunk szét  </a:t>
            </a:r>
            <a:r>
              <a:rPr b="0" i="1" lang="hu-H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csoportba, és </a:t>
            </a:r>
            <a:r>
              <a:rPr b="0" i="1" lang="hu-HU" sz="1800" spc="-1" strike="noStrike">
                <a:solidFill>
                  <a:srgbClr val="ffffff"/>
                </a:solidFill>
                <a:latin typeface="Tahoma"/>
              </a:rPr>
              <a:t>m &gt;  nk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, ahol  k egy természetes szám, akkor legalább </a:t>
            </a:r>
            <a:r>
              <a:rPr b="0" i="1" lang="hu-HU" sz="1800" spc="-1" strike="noStrike">
                <a:solidFill>
                  <a:srgbClr val="ffffff"/>
                </a:solidFill>
                <a:latin typeface="Tahoma"/>
              </a:rPr>
              <a:t>k + 1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tárgy fog kerülni az egyik csoportb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55640" y="83664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3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négyzet alakú 1 m×m céltáblát 49 találat ért. Bizonyítsd be, hogy van 4 olyan találati pont, amelyek közül bármely 2-nek a távolsága kisebb mint 36 c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940360" y="2492280"/>
            <a:ext cx="1944720" cy="1873080"/>
            <a:chOff x="5940360" y="2492280"/>
            <a:chExt cx="1944720" cy="1873080"/>
          </a:xfrm>
        </p:grpSpPr>
        <p:grpSp>
          <p:nvGrpSpPr>
            <p:cNvPr id="523" name=""/>
            <p:cNvGrpSpPr/>
            <p:nvPr/>
          </p:nvGrpSpPr>
          <p:grpSpPr>
            <a:xfrm>
              <a:off x="5940360" y="2492280"/>
              <a:ext cx="1944720" cy="1873080"/>
              <a:chOff x="5940360" y="2492280"/>
              <a:chExt cx="1944720" cy="1873080"/>
            </a:xfrm>
          </p:grpSpPr>
          <p:sp>
            <p:nvSpPr>
              <p:cNvPr id="524" name=""/>
              <p:cNvSpPr/>
              <p:nvPr/>
            </p:nvSpPr>
            <p:spPr>
              <a:xfrm>
                <a:off x="5940360" y="2492280"/>
                <a:ext cx="1944720" cy="18730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48720" y="2492280"/>
                <a:ext cx="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940360" y="3428640"/>
                <a:ext cx="194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940360" y="2997000"/>
                <a:ext cx="194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40360" y="3860640"/>
                <a:ext cx="194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443640" y="2492280"/>
                <a:ext cx="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80360" y="2492280"/>
                <a:ext cx="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516720" y="3068640"/>
              <a:ext cx="14436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32720" y="2997360"/>
              <a:ext cx="14436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16720" y="3284640"/>
              <a:ext cx="14436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04000" y="3284640"/>
              <a:ext cx="14436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042920" y="2492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a négyzetet 4×4=16 kisnégyzetre. Mivel 16 tartomány és 49=3×16+1 pont van, ezért a skatulya elv alapján az egyikbe biztosan lesz legkevesebb 3+1= 4 po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5460840" y="288288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0840" y="28828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5796000" y="5300640"/>
          <a:ext cx="863640" cy="27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5300640"/>
                    <a:ext cx="8636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1258920" y="5300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És mivel egy kisnégyzet átlójának a hoss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Ezért a feladatot megoldottu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00000" y="90792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4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44 királynő van elhelyezve egy 8  х 8-as sakktáblán. Mutassuk meg, hogy bármelyik királynő legalább egy másikat ütni fog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00000" y="270828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egoldás: Minden királynő legalább 21 mezőt ural. Azt a mezőt is figyelembe véve, amelyen a királynő áll, összesen 22 ellenőrzés alatt álló mezőt kapunk. Tegyük fel, hogy létezik olyan királynő, amely egyetlen másikat sem üt! A visszamaradó mezők száma: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64 – 22 = 42. De nekünk 43 másik királynőnk van, így a skatulya-elv értelmében következik, hogy legalább az egyikük a tekintett királynő által ütésben tartott mezőkön helyezkedik el. Ez egy ellentmondá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468360" y="6922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55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Az 1-től 10 –ig terjedő természetes számokat tetszőleges sorrendben egymás alá írjuk egy oszlopban. Minden számot összeadunk az oszlopban elfoglalt helyét jelölő sorszámmal. Igazolja, hogy legalább két ilyen összeg ugyanazzal a számjeggyel végződi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11280" y="314172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egoldás: Tegyük fel, hogy ezek az összegek mind különböző számjegyben végződne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zek szerint az összegek utolsó számjegyei közt a 0, 1, ..., 9 mindegyike pont egyszer fordul elő. Ellenkező esetben a skatulya elv szerint két különböző összeg ugyanarra a számjegyre végződik. Ebből az következik, hogy az adott összegeket összeadva, ezek összege ugyanarra a számjegyre végződik, mint az  1 + 2 + ... + 9 = 45 összeg, tehát az 5-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ásrészt az 1-től 10-ig terjedő egészek összege 55. Az oszlopban elfoglalt helyüket jelző sorszámok összege is 55. Tehát ennek a kettőnek az összege, a 110, a 0-ra végződik. Ez ellentmond a feltételne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900000" y="69228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6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ak az 1, 2, ..., 200 számok, és kiválasztunk  101-et közülük. Igazolja, hogy a kiválasztott számok között van legalább két  olyan, amelyek közül az egyik a másoknak osztó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042920" y="299736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Ha az a egy 200-nál kisebb páratlan szám, jelöljük a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{a, 2a, 4a, 8a, 16a, 32a, 64a, 128a} halmazt A-val. Az 1 és 200 közti egész számok mindegyikére létezik egy olyan páratlan egész a &lt; 200 amelyre a megfelelő A tartalmazza az adott számot. Mivel 100 il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különböző A halmaz lehetséges (az 1 és 200 közti páratlan egészek száma 100) és a feladat szerint 101  egészet választunk  ki,  a skatulya  elv szerint,   legalább  két kiválasztott egész szám ugyanabba az  A halmazba tartozik.  Másrészt bármely két  szám közül, amelye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ugyanabba az A halmazba tartoznak az egyik a másiknak osztój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11280" y="69228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a 10  х 10-es sakktábla,  és úgy írunk pozitív egészeket a sakktábla mezőire, hogy bármely  két függőleges, vagy vízszintes szomszéd különbsége ne haladja meg az 5-öt.  Igazolja, hogy legalább két szomszéd egyenlő lesz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4360" y="2924280"/>
            <a:ext cx="82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Jelölje  a  és  b a sakktáblára írt legnagyobb és legkisebb  számot. Ha nincs két egyenlő köztük, akkor  a –  b ≥ 99. Kössük most össze az  a és  b számokat tartalmazó mezőket a lehető legrövidebb olyan utat tartalmazó lépésekkel, amely csak vízszintes és függőleges irányba halad a mezőkön. A lehető leghosszabb ilyen út 18  lépést jelenthet,  (9 vízszintes és 9 függőleges lépés). Ez azt is jelenti, hogy az a  úgy érhető el a b –ből, hogy 18-szor legfeljebb 5-el növelem az adott számot, vagyis  a≤  b + 18.5. Következik, hogy b + 90  ≥ b + 99. Ez nyilván lehetetlen, tehát legalább két szomszédos szám egyenlő kell legy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755640" y="5493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58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Az 1 –től 16-ig terjedő egészeket leírjuk az 4 x 4 sakktábla mezőire úgy, hogy van legalább 2 olyan, szomszédos oldallal rendelkező mező, amelyben a számok különbsége nem kevesebb mint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3024360" cy="19144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4284720" y="2708280"/>
            <a:ext cx="39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Helyezzük el az ábra szerint az 1, 2, 3, 4 számokat és jelöljük csillaggal a szóba jöhető szomszédjaikat. Függetlenül attól, hogy az 1, 2, 3, 4 hogyan helyeztük el, a csillagok száma nem lehet kevesebb, mint 4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00000" y="494172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katulya elv alapján legalább egy csillag helyére olyan szám kerül, ami nem lehet kisebb, mint 8(ugyanis a szóba jöhető 5, 6 és 7 mindössze 3 csillagot foglal le). Ezzel kész a bizonyítá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900000" y="69228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59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Egy szabályos ikoszagon (20 oldalú sokszög – iko  a görög nyelven húszat jelent) 9  csúcsa pirosra van festve. Igazolja, hogy van olyan piros csúcsú háromszög, amely egyenlő szárú.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71640" y="278136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Tahoma"/>
              </a:rPr>
              <a:t>Számozzuk az ikoszagon csúcsait 1-től 20-ig az óramutató járásával megegyező irányban. Ezek közt azok a  csúcsok, amiket 1, 5, 9, 13 és 17; amiket 2, 6, 10, 14 és 18; amiket 3, 7, 11, 15 és 19; és amiket 4, 8, 12, 16 és 20 jelöl, 4 szabályos ötszöget határoznak meg.  Mivel 9 csúcsot festettünk pirosra, a skatulya elvből következik, hogy a 9 csúcs közül legalább 3  ugyanahhoz az ötszöghöz tartozik. Másrészt egy szabályos ötszög bármely 3 csúcsa egy egyenlő szárú háromszöget alkot.</a:t>
            </a:r>
            <a:r>
              <a:rPr b="0" lang="hu-HU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55640" y="765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6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 6  х 6  négyzet  36 zárt egységnégyzetre bontható (az oldalaik pontjait is hozzávesszük). Számítsa ki az olyan egységnégyzeteknek a maximális számát, amelyek úgy festhetők ki kékre, hogy két kék egységnégyzetnek nincs közös pontja (csúcsoknál se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26920" y="3213000"/>
            <a:ext cx="54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a négyzetet 9 darab 2 х 2 négyzetre, amik a skatulyák lesznek. Egy ilyen skatulya nem tartalmazhat egynél több  kékre festett négyzetet. Következik, hogy  a keresett szám legfeljebb 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443640" y="3068640"/>
            <a:ext cx="2384280" cy="235584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900000" y="5589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z alábbi példa egy lehetőséget szemléltet, amiben a kék négyzeteket Х jelöl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755640" y="620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61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Adott egy  1 oldalú négyzet és abban 101 pont, amelyek közt bármely 3 nem kollineáris. Igazolja, hogy van köztük 3 amelyek egy olyan háromszöget alkotnak, aminek a területe nem nagyobb, mint 0,0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6920" y="2565360"/>
            <a:ext cx="80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 a négyzetet 50 egybevágó téglalapra. Ez megtehető például ha a négyzet egyik oldalát 10 egyenlő részre osztjuk, és a szomszédos oldalát  5 egyenlő részre osztjuk, majd az oldalakkal párhuzamosan felosztjuk a négyzetet 50 egybevásó téglalapra, amelyeknek a méretei  0,2 х 0,1. A skatulyaelv alapján, legalább három pont esik legalább az egyik ilyen téglalapra. De egy téglalapba írt háromszög területe nem haladhatja meg a téglalap területének a felét, vagyis a konkrét  példában a  0,01 értéke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755640" y="47628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62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Rajzoljunk meg a síkban 3 különböző egyenest, ezek a síkot diszjunkt tartományokra osztják. Igazoljuk, hogy bárhogyan veszünk fel 8 pontot az egyeneseken kívül, mindig lesz 2 olyan pont, amely ugyanabban a síktartományban vann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780000" y="263700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l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egtöbb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síktartományt akkor kapjuk, ha az egyenesek teljesen általános viszonyúak. Egy ilyen helyzet a mellékelt ábrán láthat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3789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Ezek a síkot a legtöbb, 7 diszjunkt tartományra osztják. Mivel 8 pontunk van, ezért valamelyik tartományban van 2 po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68360" y="2637000"/>
            <a:ext cx="3382920" cy="2097000"/>
            <a:chOff x="468360" y="2637000"/>
            <a:chExt cx="3382920" cy="2097000"/>
          </a:xfrm>
        </p:grpSpPr>
        <p:grpSp>
          <p:nvGrpSpPr>
            <p:cNvPr id="565" name=""/>
            <p:cNvGrpSpPr/>
            <p:nvPr/>
          </p:nvGrpSpPr>
          <p:grpSpPr>
            <a:xfrm>
              <a:off x="539640" y="2708280"/>
              <a:ext cx="3311640" cy="2016000"/>
              <a:chOff x="539640" y="2708280"/>
              <a:chExt cx="3311640" cy="2016000"/>
            </a:xfrm>
          </p:grpSpPr>
          <p:sp>
            <p:nvSpPr>
              <p:cNvPr id="566" name=""/>
              <p:cNvSpPr/>
              <p:nvPr/>
            </p:nvSpPr>
            <p:spPr>
              <a:xfrm flipV="1">
                <a:off x="755640" y="2708280"/>
                <a:ext cx="2303640" cy="194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08000" y="2708280"/>
                <a:ext cx="1800360" cy="20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39640" y="4220640"/>
                <a:ext cx="3311640" cy="71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468360" y="4365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50920" y="43657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64000" y="422100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16360" y="342900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68360" y="263700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03280" y="3500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95640" y="364500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0000" y="1125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cccc"/>
                </a:solidFill>
                <a:uFillTx/>
                <a:latin typeface="Comic Sans MS"/>
              </a:rPr>
              <a:t>1. példa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: Egy iskolába 367 diák jár. Bizonyítsuk be, hogy van legalább 2 diák, akik ugyanazon a napon ünneplik a születésnapjuk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299736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Comic Sans MS"/>
              </a:rPr>
              <a:t>Skatulyák</a:t>
            </a:r>
            <a:r>
              <a:rPr b="0" lang="en-US" sz="1800" spc="-1" strike="noStrike">
                <a:solidFill>
                  <a:srgbClr val="ff99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z év 366 napja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Tárgyak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a 367=366+1 di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4581360"/>
            <a:ext cx="720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hát létezik legalább 2 diák aki ugyanabban a hónapban szület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1. változ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684360" y="76500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63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egységnyi sugarú gömb felszínén felveszünk 9 pontot. Igazoljuk, hogy biztosan lesz közöttük 2, amelyeknek az egymástól mért távolsága nem nagyobb mint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2700360" y="1844640"/>
          <a:ext cx="430200" cy="38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844640"/>
                    <a:ext cx="430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"/>
          <p:cNvGrpSpPr/>
          <p:nvPr/>
        </p:nvGrpSpPr>
        <p:grpSpPr>
          <a:xfrm>
            <a:off x="755640" y="2781360"/>
            <a:ext cx="2448000" cy="2447640"/>
            <a:chOff x="755640" y="2781360"/>
            <a:chExt cx="2448000" cy="2447640"/>
          </a:xfrm>
        </p:grpSpPr>
        <p:grpSp>
          <p:nvGrpSpPr>
            <p:cNvPr id="580" name=""/>
            <p:cNvGrpSpPr/>
            <p:nvPr/>
          </p:nvGrpSpPr>
          <p:grpSpPr>
            <a:xfrm>
              <a:off x="755640" y="2781360"/>
              <a:ext cx="2448000" cy="2447640"/>
              <a:chOff x="755640" y="2781360"/>
              <a:chExt cx="2448000" cy="2447640"/>
            </a:xfrm>
          </p:grpSpPr>
          <p:sp>
            <p:nvSpPr>
              <p:cNvPr id="581" name=""/>
              <p:cNvSpPr/>
              <p:nvPr/>
            </p:nvSpPr>
            <p:spPr>
              <a:xfrm>
                <a:off x="1979640" y="2781360"/>
                <a:ext cx="0" cy="2447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755640" y="2781360"/>
                <a:ext cx="2448000" cy="2447640"/>
                <a:chOff x="755640" y="2781360"/>
                <a:chExt cx="2448000" cy="24476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755640" y="2781360"/>
                  <a:ext cx="2448000" cy="2447640"/>
                </a:xfrm>
                <a:prstGeom prst="ellips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55640" y="3789000"/>
                  <a:ext cx="2448000" cy="576000"/>
                </a:xfrm>
                <a:prstGeom prst="ellips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1619280" y="2781360"/>
                <a:ext cx="792000" cy="24476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55640" y="4076640"/>
                <a:ext cx="2448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1619280" y="3789360"/>
              <a:ext cx="79236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3780000" y="2852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Osszuk fel a kört 3, páronként egymásra merőleges nagykörrel 8 egyenlő tartományra. Ekkor a 9 pont közül biztosan 2 pont ugyanabba a tartományba esi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45440" y="4292640"/>
            <a:ext cx="2158200" cy="3314520"/>
            <a:chOff x="2845440" y="4292640"/>
            <a:chExt cx="2158200" cy="3314520"/>
          </a:xfrm>
        </p:grpSpPr>
        <p:sp>
          <p:nvSpPr>
            <p:cNvPr id="590" name=""/>
            <p:cNvSpPr/>
            <p:nvPr/>
          </p:nvSpPr>
          <p:spPr>
            <a:xfrm>
              <a:off x="3924360" y="4292640"/>
              <a:ext cx="0" cy="11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2845440" y="4292640"/>
              <a:ext cx="2158200" cy="3314520"/>
              <a:chOff x="2845440" y="4292640"/>
              <a:chExt cx="2158200" cy="3314520"/>
            </a:xfrm>
          </p:grpSpPr>
          <p:sp>
            <p:nvSpPr>
              <p:cNvPr id="592" name=""/>
              <p:cNvSpPr/>
              <p:nvPr/>
            </p:nvSpPr>
            <p:spPr>
              <a:xfrm flipH="1">
                <a:off x="3924360" y="5445000"/>
                <a:ext cx="107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2845440" y="4292640"/>
                <a:ext cx="2157840" cy="3314520"/>
                <a:chOff x="2845440" y="4292640"/>
                <a:chExt cx="2157840" cy="33145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564000" y="4653000"/>
                  <a:ext cx="50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067280" y="5084640"/>
                  <a:ext cx="50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924360" y="5589720"/>
                  <a:ext cx="50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2845440" y="4292640"/>
                  <a:ext cx="2157840" cy="3314520"/>
                  <a:chOff x="2845440" y="4292640"/>
                  <a:chExt cx="2157840" cy="3314520"/>
                </a:xfrm>
              </p:grpSpPr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2845440" y="4292640"/>
                    <a:ext cx="2157840" cy="3314520"/>
                    <a:chOff x="2845440" y="4292640"/>
                    <a:chExt cx="2157840" cy="331452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flipV="1">
                      <a:off x="3924000" y="5444640"/>
                      <a:ext cx="576360" cy="5050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V="1">
                      <a:off x="3998160" y="4939200"/>
                      <a:ext cx="1005120" cy="10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2845440" y="4292640"/>
                      <a:ext cx="2157840" cy="230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3348360" y="4292640"/>
                      <a:ext cx="1152000" cy="331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3" name=""/>
                  <p:cNvSpPr/>
                  <p:nvPr/>
                </p:nvSpPr>
                <p:spPr>
                  <a:xfrm>
                    <a:off x="3924360" y="5445000"/>
                    <a:ext cx="1008000" cy="289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" name=""/>
                <p:cNvSpPr/>
                <p:nvPr/>
              </p:nvSpPr>
              <p:spPr>
                <a:xfrm>
                  <a:off x="3924360" y="4292640"/>
                  <a:ext cx="934920" cy="144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5" name=""/>
          <p:cNvSpPr/>
          <p:nvPr/>
        </p:nvSpPr>
        <p:spPr>
          <a:xfrm>
            <a:off x="5508720" y="4437000"/>
            <a:ext cx="33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De ekkor a nyolcad gömbcikkben akármilyen távol is lesz a 2 pont egymástól, ez a távolság nem több mi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8101080" y="5229360"/>
          <a:ext cx="430200" cy="3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01080" y="5229360"/>
                    <a:ext cx="430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755640" y="836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64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ressük meg a tört értékét, ha különböző betűk különböző, azonos betűk azonos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számjegyeke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jelölne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4667400" cy="9050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539640" y="3573360"/>
            <a:ext cx="813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z előforduló különböző betűk: D, I, R, C, H, L, E, T, P, N  éppen 10 bet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Összesen 10 számjegyünk van: 0, 1, 2, 3, 4, 5, 6,7, 8, 9 és a nevezőb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m lehet 0, azért a számláló valamelyik betűje a 0, így a tört értéke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92360" y="501336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332000" y="242100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Vég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1125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cccc"/>
                </a:solidFill>
                <a:uFillTx/>
                <a:latin typeface="Comic Sans MS"/>
              </a:rPr>
              <a:t>2. példa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: Egy iskolába 735 diák jár. Bizonyítsuk be, hogy van legalább 3 diák, akik ugyanazon a napon ünneplik a születésnapjuk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299736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Comic Sans MS"/>
              </a:rPr>
              <a:t>Skatulyák</a:t>
            </a:r>
            <a:r>
              <a:rPr b="0" lang="en-US" sz="1800" spc="-1" strike="noStrike">
                <a:solidFill>
                  <a:srgbClr val="ff99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z év 366 napja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Tárgyak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735=366×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+3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di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4724280"/>
            <a:ext cx="777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hát létezik legalább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2+1=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iák aki ugyanabban a hónapban szület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2. változ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00000" y="1125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cccc"/>
                </a:solidFill>
                <a:uFillTx/>
                <a:latin typeface="Comic Sans MS"/>
              </a:rPr>
              <a:t>3. példa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: Legkevesebb hány tanulója kell legyen egy iskolának, hogy biztosan létezzen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tanuló, aki ugyanazon a napon születet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299736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Comic Sans MS"/>
              </a:rPr>
              <a:t>Skatulyák</a:t>
            </a:r>
            <a:r>
              <a:rPr b="0" lang="en-US" sz="1800" spc="-1" strike="noStrike">
                <a:solidFill>
                  <a:srgbClr val="ff99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z év 366 napja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Tárgyak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??? tanul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653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vel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366×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= 146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zért legkevesebb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1464+1=146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anuló kell leg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9:53:44Z</dcterms:created>
  <dc:creator>TuZo</dc:creator>
  <dc:description/>
  <dc:language>en-US</dc:language>
  <cp:lastModifiedBy>TuZo</cp:lastModifiedBy>
  <dcterms:modified xsi:type="dcterms:W3CDTF">2013-01-15T17:43:00Z</dcterms:modified>
  <cp:revision>144</cp:revision>
  <dc:subject/>
  <dc:title>1. dia</dc:title>
</cp:coreProperties>
</file>