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wmf" ContentType="image/x-wmf"/>
  <Override PartName="/ppt/media/image59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58.jpeg" ContentType="image/jpeg"/>
  <Override PartName="/ppt/media/image15.wmf" ContentType="image/x-wmf"/>
  <Override PartName="/ppt/media/image1.jpeg" ContentType="image/jpeg"/>
  <Override PartName="/ppt/media/image50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46.jpeg" ContentType="image/jpeg"/>
  <Override PartName="/ppt/media/image3.wmf" ContentType="image/x-wmf"/>
  <Override PartName="/ppt/media/image29.jpeg" ContentType="image/jpeg"/>
  <Override PartName="/ppt/media/image5.wmf" ContentType="image/x-wmf"/>
  <Override PartName="/ppt/media/image35.wmf" ContentType="image/x-wmf"/>
  <Override PartName="/ppt/media/image43.wmf" ContentType="image/x-wmf"/>
  <Override PartName="/ppt/media/image45.wmf" ContentType="image/x-wmf"/>
  <Override PartName="/ppt/media/image42.jpeg" ContentType="image/jpeg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33.png" ContentType="image/png"/>
  <Override PartName="/ppt/media/image54.wmf" ContentType="image/x-wmf"/>
  <Override PartName="/ppt/media/image55.jpeg" ContentType="image/jpeg"/>
  <Override PartName="/ppt/media/image44.wmf" ContentType="image/x-wmf"/>
  <Override PartName="/ppt/media/image56.wmf" ContentType="image/x-wmf"/>
  <Override PartName="/ppt/media/image31.wmf" ContentType="image/x-wmf"/>
  <Override PartName="/ppt/media/image6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27.png" ContentType="image/png"/>
  <Override PartName="/ppt/media/image30.wmf" ContentType="image/x-wmf"/>
  <Override PartName="/ppt/media/image37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FBC84-9FF1-41A2-9173-3FE3F6E9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24278-ED30-4F24-AE3B-EC06F772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A30D-21E4-4EBC-8387-F6F7D78C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4E71-92B2-4C0D-9770-185A96C8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66FE-CAD5-4931-A35D-0A8ABE32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ACAD-1E6E-4F22-8708-7EC2C355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A869-336E-46E8-A42D-5E8ABC83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630B-AA66-4980-AA34-0AA0E0BF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2AAA-1F1C-43E4-9ADE-2C6D3BC4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6AA0-F569-438F-8621-D6CC614D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46D5-0493-4CB3-B531-28CC144C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3ABA-9012-4A39-85EE-855BC486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87C0-EED3-4587-874A-7B4662AD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406B-032C-46E6-83C9-31A1CA90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13A6-86F4-46CA-9BF2-16A40565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C518-6010-4DF1-B987-A2D58D74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FC6D-37EA-4FE3-BA7D-1BD5263C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C522-E6F9-4371-8334-F677A21F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EE402-555A-40B1-A376-5FAC2364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18BA-8124-4398-9504-4E396E45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459CE-4E2F-4851-8AE6-437CCD56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1D80F-9FEF-436B-B2B1-32C483DD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A5FD-FC4F-4BF2-9819-F1FFB2C7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1D47E-9726-431E-ADE4-270049F5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B309-1092-46D3-8C5C-09322F9BCD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611F-1BF6-4765-9EA4-E86749411D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Comic Sans MS"/>
              </a:rPr>
              <a:t>Logikai szita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5280" y="1915920"/>
            <a:ext cx="8569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66"/>
                </a:solidFill>
                <a:latin typeface="Comic Sans MS"/>
              </a:rPr>
              <a:t>és a Venn-Euler diagrammok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2376720" cy="1758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4.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mic Sans MS"/>
              </a:rPr>
              <a:t>Egy fagyisnál kétféle fagyiból lehet választani: csoki és vanília. 11-en állnak sorban a fagyisnál 5-en kértek csokis fagyit. Vaníliát 3-mal többen kértek mint csak csokist. Hányan kértek csokis és vaníliás fagyit is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95600" cy="2575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39640" y="486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kko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és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03280" y="4797360"/>
          <a:ext cx="1944720" cy="66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797360"/>
                    <a:ext cx="194472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356000" y="4869000"/>
          <a:ext cx="194472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4869000"/>
                    <a:ext cx="19447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948360" y="4809960"/>
          <a:ext cx="2087640" cy="571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48360" y="4809960"/>
                    <a:ext cx="2087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539640" y="55897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ehát (5-x)+ x + (8-x)= 11 ahonnan x=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5.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7527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z egyetemen 200-an tanulnak angolt, 150-en spanyolt és 140-en franciát. 80-an angolt és franciát, 20-an angolt és spanyolt, 10-en spanyolt és franciát, 5-en pedig mindhárom nyelvet tanulják. Hányan tanulnak összesen nyelvet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Megoldás: bentről kifele töltjük k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384360" cy="2363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4076640"/>
            <a:ext cx="8209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Először a „belső” 5- öt írjuk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Ezután a 80- 5= 75-öt, a 20- 5= 15-öt, végül a 80-5= 75-ö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3. Ezután kitöltjük a „legkülső” tartományoka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200- (5+15+75)= 105, 150- (5+5+15)=125, 140- (5+5+75)= 5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Ezután összeadva a tartományokban levő számokat 385 adó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A megoldás szita-formulával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826920" y="2781360"/>
          <a:ext cx="742320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781360"/>
                    <a:ext cx="74232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835280" y="3860640"/>
          <a:ext cx="5778360" cy="41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860640"/>
                    <a:ext cx="577836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332000" y="494172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ff00"/>
                </a:solidFill>
                <a:latin typeface="Comic Sans MS"/>
              </a:rPr>
              <a:t>Ennyien tanulják valamelyik nyelv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1628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Legyenek:  A={angolul tudók}, S={spanyolul tudók}, F={franciául tudók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Tehá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6.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680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Egy osztály 32 tanulója közül 16-an tanulnak angolul, 13-an franciául, 13-an németül. Az említett nyelvek közül 5-en németül és franciául is, 7-en németül és angolul is, 6-an angolul és franciául is tanulnak. Négyen mindhárom nyelvet tanulják. Hányan nem tanulják az említett nyelvek egyikét sem?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5157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ff00"/>
                </a:solidFill>
                <a:latin typeface="Comic Sans MS"/>
              </a:rPr>
              <a:t>A Ven-Euler halmazkarikákat bentről kifele töltöttük ki. </a:t>
            </a:r>
            <a:br>
              <a:rPr sz="2400"/>
            </a:br>
            <a:r>
              <a:rPr b="0" lang="hu-HU" sz="2400" spc="-1" strike="noStrike">
                <a:solidFill>
                  <a:srgbClr val="00ff00"/>
                </a:solidFill>
                <a:latin typeface="Comic Sans MS"/>
              </a:rPr>
              <a:t>Az eredmény leolvasható a diagramról, de a szitaformulával is felírju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376880" cy="3452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579600" y="1425600"/>
            <a:ext cx="7916400" cy="1786680"/>
            <a:chOff x="579600" y="1425600"/>
            <a:chExt cx="7916400" cy="1786680"/>
          </a:xfrm>
        </p:grpSpPr>
        <p:graphicFrame>
          <p:nvGraphicFramePr>
            <p:cNvPr id="205" name=""/>
            <p:cNvGraphicFramePr/>
            <p:nvPr/>
          </p:nvGraphicFramePr>
          <p:xfrm>
            <a:off x="579600" y="2514600"/>
            <a:ext cx="7916400" cy="69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600" y="2514600"/>
                      <a:ext cx="7916400" cy="6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2395800" y="1425600"/>
            <a:ext cx="2775600" cy="5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5800" y="1425600"/>
                      <a:ext cx="277560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9" name=""/>
          <p:cNvGraphicFramePr/>
          <p:nvPr/>
        </p:nvGraphicFramePr>
        <p:xfrm>
          <a:off x="684360" y="3429000"/>
          <a:ext cx="737064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429000"/>
                    <a:ext cx="73706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900000" y="44370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Tehát 4 tanuló nem tanul sem Angolt, sem Franciát, sem Német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62064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goldá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7.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753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Az osztályban 38 tanuló van. Mindenki űzi a következő sportágak valamelyikét: atlétika, röplabda, úszás.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19-en atletizálnak, 21-en röplabdáznak, 12 tanuló úszik; 7 tanuló atletizál és röplabdázik, 6 tanuló atletizál és úszik, 3 tanuló röplabdázik és úszik. Hány tanuló űzi mindhárom sportot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472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Legyen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 és bentről kifele haladva töltjük ki a halmazábrá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35280" y="4724280"/>
          <a:ext cx="172872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4724280"/>
                    <a:ext cx="17287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84360" y="5589720"/>
          <a:ext cx="8259480" cy="49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5589720"/>
                    <a:ext cx="825948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5435640" y="1268280"/>
            <a:ext cx="3085920" cy="3152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A megoldás szita-formulával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55640" y="2708280"/>
          <a:ext cx="7993080" cy="5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08280"/>
                    <a:ext cx="799308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851280" y="5516640"/>
          <a:ext cx="1460520" cy="4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5516640"/>
                    <a:ext cx="14605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755640" y="162864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Legyenek:  A={atlétizálók}, R={röplabdázók}, U={úszók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Tehá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573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Beírva a számosságokat kapjuk, hog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4869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Innen kapjuk, hog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484360" y="4149720"/>
          <a:ext cx="403884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4149720"/>
                    <a:ext cx="40388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1197000"/>
            <a:ext cx="46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gy osztály létszáma 30. Az osztályban három nyelvet tanulnak: angolt, oroszt és franciát, és minden diák tanulja legalább az egyik nyelvet. Angolul 14-en, oroszul 15-en, franciául 25-en tanulnak. Pontosan két nyelvet összesen 6 diák tanul. Hányan tanulják mindhárom nyelvet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8.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2953080" cy="26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9640" y="4221000"/>
            <a:ext cx="849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Legyen rendre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Fr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,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An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,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Or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 a franciául, angolul, illetve oroszul beszélő tanulók halmaza;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F, A, O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  a csak franciául, csak angolul, csak oroszul beszélő tanulók száma. Az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x, y, z, t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 számok jelentése a diagramról leolvasható. A feltételek alapján: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F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x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y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z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+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t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 = 30;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x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y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z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= 6;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F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x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y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t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= 25;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x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z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t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= 14;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y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z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t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= 1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Ezért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F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= 30 – 6,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F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2 × 6 + 3 ×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t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= 54, ahonnan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t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= 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9.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03640" y="5097600"/>
          <a:ext cx="273672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5097600"/>
                    <a:ext cx="27367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250920" y="1484280"/>
            <a:ext cx="864072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Egy 29 fős osztálynak három kérdést tettek fel, mindenki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Igennel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vagy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Nemmel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válaszolhatott. A szereted-e a mateket?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22  I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, a szereted-e a fagyit?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18 I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, a szereted a palacsintát?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18 I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érkezett. Tudva azt, hogy azok közül akik szeretika mateket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7-en Nem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szeretik a fagyit és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8-an Nem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szeretik a palacsintát, valamint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12-en szeretik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a fagyit és a palacsintát, de közülük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2 Nem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szereti a mateket. Hányan mondtak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Nem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-et mindhárom kérdés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Jelölje: S=az osztály tanulói, M={szeretik a mateket}, F={szeretik a fagyit}, P={szeretik a palacsintát}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Tehá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Vegyük észre, hog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87280" y="4292640"/>
          <a:ext cx="482472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4292640"/>
                    <a:ext cx="48247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539640" y="5157720"/>
          <a:ext cx="2643120" cy="4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5157720"/>
                    <a:ext cx="264312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6156360" y="5084640"/>
          <a:ext cx="1646280" cy="5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5084640"/>
                    <a:ext cx="164628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700360" y="5734080"/>
          <a:ext cx="338436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00360" y="5734080"/>
                    <a:ext cx="3384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Comic Sans MS"/>
              </a:rPr>
              <a:t>A szitaformula alapján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116000" y="981000"/>
            <a:ext cx="7201080" cy="1208160"/>
            <a:chOff x="1116000" y="981000"/>
            <a:chExt cx="7201080" cy="1208160"/>
          </a:xfrm>
        </p:grpSpPr>
        <p:graphicFrame>
          <p:nvGraphicFramePr>
            <p:cNvPr id="249" name=""/>
            <p:cNvGraphicFramePr/>
            <p:nvPr/>
          </p:nvGraphicFramePr>
          <p:xfrm>
            <a:off x="3227400" y="981000"/>
            <a:ext cx="2421000" cy="509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27400" y="981000"/>
                      <a:ext cx="2421000" cy="5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"/>
            <p:cNvGraphicFramePr/>
            <p:nvPr/>
          </p:nvGraphicFramePr>
          <p:xfrm>
            <a:off x="1116000" y="1628640"/>
            <a:ext cx="7201080" cy="560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16000" y="1628640"/>
                      <a:ext cx="7201080" cy="56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3" name=""/>
          <p:cNvSpPr/>
          <p:nvPr/>
        </p:nvSpPr>
        <p:spPr>
          <a:xfrm>
            <a:off x="539640" y="234936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Ahonnan kapjuk, hog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11280" y="2781360"/>
          <a:ext cx="8064360" cy="5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781360"/>
                    <a:ext cx="806436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4643280" y="3357720"/>
            <a:ext cx="4032360" cy="32684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95280" y="3573360"/>
            <a:ext cx="4032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A feladatot a Ven-diagrammal is megoldhatjuk, </a:t>
            </a:r>
            <a:br>
              <a:rPr sz="1800"/>
            </a:b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1)</a:t>
            </a: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 ha először a 10-et írjuk be, </a:t>
            </a:r>
            <a:br>
              <a:rPr sz="1800"/>
            </a:b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2)</a:t>
            </a: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 aztán a 14-10=4, 15-10=5, </a:t>
            </a:r>
            <a:br>
              <a:rPr sz="1800"/>
            </a:b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12-10=2, </a:t>
            </a:r>
            <a:br>
              <a:rPr sz="1800"/>
            </a:b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3)</a:t>
            </a: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 majd sorra a 22-(4+10+5)=3, </a:t>
            </a:r>
            <a:br>
              <a:rPr sz="1800"/>
            </a:b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18-(2+10+5)= 1, és végül a </a:t>
            </a:r>
            <a:br>
              <a:rPr sz="1800"/>
            </a:b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18-(4+10+2)=2 értéke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Ez összesen 27, így 29-27=2 a felel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A logikai szita alkalmaz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nek a módszernek a lényege az, hogy az összes elem számából kivonjuk az egy tulajdonsággal rendelkezők számát, de ekkor már túl sokat vettünk el, hozzáadjuk a két tulajdonsággal rendelkezők számát, de ekkor már túl sokat adtunk hozzá, elvesszük a három tulajdonsággal rendelkezők számát stb. Ezt a módszert máshol is alkalmazhatjuk, szitamódszernek mondjuk. Ezt, amit itt láttunk, logikai szitának nevezzük.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10.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"/>
          <p:cNvSpPr/>
          <p:nvPr/>
        </p:nvSpPr>
        <p:spPr>
          <a:xfrm>
            <a:off x="1042920" y="1413000"/>
            <a:ext cx="76327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matematika dolgozatban 4 feladatot kellett megolda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z 1. feladatot 30, a 2.-at 32, a 3.-at 34, a 4.-et 32 oldotta meg jó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Az 1. és 2.-at 12, az 1. és a 3.-at 12, az 1. és a 4.-et 12, a 2. és a 3.-at 15, a 2. és a 4.-et 11, a 3. és 4.-et 10-en oldották meg helyes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Az 1., 2., 3. feladatokat 6-on, az 1., 2., 4. feladatokat 5-en, az 1., 3., 4. feladatokat 3-an, a 2., 3., 4. feladatokat 4-en oldották meg helyes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Az összes feladatot 3-an oldották meg hibátlanu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Voltak 10-en akiknek egyetlen feladatot sem sikerült megolda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ányan írtak dolgozatot matematikábó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Comic Sans MS"/>
              </a:rPr>
              <a:t>A szita formulát alkalmazzuk 4 tagra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97040" y="1916280"/>
          <a:ext cx="762156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1916280"/>
                    <a:ext cx="76215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15800" y="2924280"/>
          <a:ext cx="867420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800" y="2924280"/>
                    <a:ext cx="86742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826920" y="4365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ehát 71+10=81 tanuló írt dolgozatot matematikábó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5e5ff"/>
                </a:solidFill>
                <a:latin typeface="Comic Sans MS"/>
              </a:rPr>
              <a:t>A feladatot Venn-Euler diagrammal is megoldhatjuk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1197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Belülről kifele haladva töltjük k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887640" cy="3498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55640" y="566100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A számok összege 71, tehát összesen 71+10=81-en írtak dolgozatot matematikábó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68360" y="1052640"/>
            <a:ext cx="43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gy repülőgép utasairól a következőket tudjuk: 9 fiú, 5 magyar gyermek, 9 felnőtt férfi, 7 külföldi fiú, 14 magyar, 6 magyar férfi (beleértve a magyar fiúkat is) és 7 külföldi leány. Hány utas volt a repülőgép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148360" y="1197000"/>
            <a:ext cx="3456000" cy="28558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11.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4292640"/>
            <a:ext cx="842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Leghamarabb a 7 külföldi leány és a 7 külföldi fiú írható be a halmazábra megfelelő tartományába. Ezután a 9 fiú alapján a 2-es írható be, az 5 magyar gyerek alapján a 3-as írható be, ugyanakkor a 6 magyar férfi alapján a 4-est írjuk be, majd a 14 magyar alapján a belső 5-ös írható be. A 9 felnőtt alapján a külső 5-ös is beírható. Tehát összesen 2 ×7 + 2 ×5 + 4 + 2 + 3 = 33 utasa volt a repülőgépne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2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79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VÉGE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A logikai szita 2 halmaz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ét halmaz eseté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agy, h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kk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rt h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kk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98720" y="2276640"/>
          <a:ext cx="4622760" cy="86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8720" y="2276640"/>
                    <a:ext cx="462276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639880" y="3500280"/>
          <a:ext cx="20066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9880" y="3500280"/>
                    <a:ext cx="2006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319040" y="4403880"/>
          <a:ext cx="6451920" cy="86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19040" y="4403880"/>
                    <a:ext cx="645192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835280" y="5589720"/>
          <a:ext cx="1368360" cy="49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5589720"/>
                    <a:ext cx="13683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427640" y="5516640"/>
          <a:ext cx="3095640" cy="71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27640" y="5516640"/>
                    <a:ext cx="30956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A logikai szita 3 halmaz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árom halmaz esetén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gy, ha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kk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5120" y="2506680"/>
          <a:ext cx="87346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" y="2506680"/>
                    <a:ext cx="87346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494080" y="3357720"/>
          <a:ext cx="213840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4080" y="3357720"/>
                    <a:ext cx="21384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3584520" y="4384800"/>
            <a:ext cx="1800" cy="360"/>
            <a:chOff x="3584520" y="4384800"/>
            <a:chExt cx="1800" cy="360"/>
          </a:xfrm>
        </p:grpSpPr>
        <p:graphicFrame>
          <p:nvGraphicFramePr>
            <p:cNvPr id="124" name=""/>
            <p:cNvGraphicFramePr/>
            <p:nvPr/>
          </p:nvGraphicFramePr>
          <p:xfrm>
            <a:off x="3584520" y="4384800"/>
            <a:ext cx="1800" cy="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84520" y="4384800"/>
                      <a:ext cx="1800" cy="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" name=""/>
            <p:cNvGraphicFramePr/>
            <p:nvPr/>
          </p:nvGraphicFramePr>
          <p:xfrm>
            <a:off x="3584880" y="4384800"/>
            <a:ext cx="360" cy="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4880" y="4384800"/>
                      <a:ext cx="360" cy="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" name=""/>
          <p:cNvGrpSpPr/>
          <p:nvPr/>
        </p:nvGrpSpPr>
        <p:grpSpPr>
          <a:xfrm>
            <a:off x="3319560" y="4148280"/>
            <a:ext cx="1440" cy="360"/>
            <a:chOff x="3319560" y="4148280"/>
            <a:chExt cx="1440" cy="360"/>
          </a:xfrm>
        </p:grpSpPr>
        <p:graphicFrame>
          <p:nvGraphicFramePr>
            <p:cNvPr id="129" name=""/>
            <p:cNvGraphicFramePr/>
            <p:nvPr/>
          </p:nvGraphicFramePr>
          <p:xfrm>
            <a:off x="3319560" y="4148280"/>
            <a:ext cx="1440" cy="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19560" y="4148280"/>
                      <a:ext cx="1440" cy="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3319920" y="4148280"/>
            <a:ext cx="360" cy="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19920" y="4148280"/>
                      <a:ext cx="360" cy="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324000" y="4191120"/>
            <a:ext cx="8568720" cy="1542600"/>
            <a:chOff x="324000" y="4191120"/>
            <a:chExt cx="8568720" cy="1542600"/>
          </a:xfrm>
        </p:grpSpPr>
        <p:graphicFrame>
          <p:nvGraphicFramePr>
            <p:cNvPr id="134" name=""/>
            <p:cNvGraphicFramePr/>
            <p:nvPr/>
          </p:nvGraphicFramePr>
          <p:xfrm>
            <a:off x="324000" y="5049720"/>
            <a:ext cx="8568720" cy="684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4000" y="5049720"/>
                      <a:ext cx="8568720" cy="68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2681640" y="4191120"/>
            <a:ext cx="2469960" cy="508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681640" y="4191120"/>
                      <a:ext cx="2469960" cy="50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68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68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1. 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22960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Garamond"/>
                <a:ea typeface="Arial"/>
              </a:rPr>
              <a:t>Összesen </a:t>
            </a:r>
            <a:r>
              <a:rPr b="1" lang="hu-HU" sz="2400" spc="-1" strike="noStrike">
                <a:solidFill>
                  <a:srgbClr val="ffffff"/>
                </a:solidFill>
                <a:latin typeface="Garamond"/>
                <a:ea typeface="Arial"/>
              </a:rPr>
              <a:t>99-9=90 kétjegy</a:t>
            </a:r>
            <a:r>
              <a:rPr b="1" lang="hu-HU" sz="2000" spc="-1" strike="noStrike">
                <a:solidFill>
                  <a:srgbClr val="ffffff"/>
                </a:solidFill>
                <a:latin typeface="Garamond"/>
                <a:ea typeface="Arial"/>
              </a:rPr>
              <a:t>ű</a:t>
            </a:r>
            <a:r>
              <a:rPr b="1" lang="hu-HU" sz="2400" spc="-1" strike="noStrike">
                <a:solidFill>
                  <a:srgbClr val="ffffff"/>
                </a:solidFill>
                <a:latin typeface="Garamond"/>
                <a:ea typeface="Arial"/>
              </a:rPr>
              <a:t> szám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  <a:ea typeface="Arial"/>
              </a:rPr>
              <a:t>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Előbb kiszámoljuk, hogy hány 5-tel és 6-tal is osztható kétjegyű szám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Legyen </a:t>
            </a: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A= {10,15,…,95}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 az </a:t>
            </a: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5-tel 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osztható kétjegyű számok halmaz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Legyen </a:t>
            </a: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B= {12,18,24,…,96}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 a </a:t>
            </a: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6-tal 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osztható kétjegyű számok halmaz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Tehát 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a </a:t>
            </a: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30-cal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 osztható kétjegyű számok halmaz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78040" y="5445000"/>
          <a:ext cx="277956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5445000"/>
                    <a:ext cx="27795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95280" y="1268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ány darab olyan kétjegyű pozitív egész szám van, amely osztható 5-tel, vagy 6-tal, esetleg mind a kettőv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50752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és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ki kellett venni az egyjegyű 5 és 6 számokat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),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ovábbá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z előző első képlet szerint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Tehát 30 szám osztható 5-tel vagy 6-t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859280" y="1773360"/>
          <a:ext cx="31672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73360"/>
                    <a:ext cx="3167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755640" y="1773360"/>
          <a:ext cx="3213000" cy="87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773360"/>
                    <a:ext cx="321300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372360" y="2924280"/>
          <a:ext cx="1584360" cy="58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72360" y="2924280"/>
                    <a:ext cx="158436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476360" y="3933720"/>
          <a:ext cx="6326280" cy="70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3933720"/>
                    <a:ext cx="632628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755640" y="62064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egold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2. 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22960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Comic Sans MS"/>
                <a:ea typeface="Arial"/>
              </a:rPr>
              <a:t>Összesen </a:t>
            </a:r>
            <a:r>
              <a:rPr b="1" lang="hu-HU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99-9=90 kétjegy</a:t>
            </a:r>
            <a:r>
              <a:rPr b="1" lang="hu-HU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ű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  <a:ea typeface="Arial"/>
              </a:rPr>
              <a:t> szám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Előbb kiszámoljuk, hogy hány 5-tel és 6-tal is osztható kétjegyű szám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Legyen </a:t>
            </a:r>
            <a:r>
              <a:rPr b="1" lang="hu-HU" sz="2400" spc="-1" strike="noStrike">
                <a:solidFill>
                  <a:srgbClr val="ffffff"/>
                </a:solidFill>
                <a:latin typeface="Comic Sans MS"/>
              </a:rPr>
              <a:t>A= {10,15,…,95}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 az </a:t>
            </a:r>
            <a:r>
              <a:rPr b="1" lang="hu-HU" sz="2400" spc="-1" strike="noStrike">
                <a:solidFill>
                  <a:srgbClr val="ffffff"/>
                </a:solidFill>
                <a:latin typeface="Comic Sans MS"/>
              </a:rPr>
              <a:t>5-tel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 osztható kétjegyű számok halmaz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Legyen </a:t>
            </a:r>
            <a:r>
              <a:rPr b="1" lang="hu-HU" sz="2400" spc="-1" strike="noStrike">
                <a:solidFill>
                  <a:srgbClr val="ffffff"/>
                </a:solidFill>
                <a:latin typeface="Comic Sans MS"/>
              </a:rPr>
              <a:t>B= {12,18,24,…,96}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 a </a:t>
            </a:r>
            <a:r>
              <a:rPr b="1" lang="hu-HU" sz="2400" spc="-1" strike="noStrike">
                <a:solidFill>
                  <a:srgbClr val="ffffff"/>
                </a:solidFill>
                <a:latin typeface="Comic Sans MS"/>
              </a:rPr>
              <a:t>6-tal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 osztható kétjegyű számok halmaz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Tehát 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a </a:t>
            </a:r>
            <a:r>
              <a:rPr b="1" lang="hu-HU" sz="2400" spc="-1" strike="noStrike">
                <a:solidFill>
                  <a:srgbClr val="ffffff"/>
                </a:solidFill>
                <a:latin typeface="Comic Sans MS"/>
              </a:rPr>
              <a:t>30-cal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 osztható kétjegyű számok halmaz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78040" y="5445000"/>
          <a:ext cx="277956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5445000"/>
                    <a:ext cx="27795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95280" y="1268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ány darab olyan kétjegyű pozitív egész szám van, amely nem osztható sem 5-tel, sem 6-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9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50752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292720" y="1125360"/>
          <a:ext cx="324000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125360"/>
                    <a:ext cx="32400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971640" y="4762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egold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32000" y="1989000"/>
          <a:ext cx="345600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989000"/>
                    <a:ext cx="3456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292720" y="2133720"/>
          <a:ext cx="1727280" cy="63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2133720"/>
                    <a:ext cx="1727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258920" y="1197000"/>
          <a:ext cx="1405080" cy="72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1197000"/>
                    <a:ext cx="14050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476360" y="4383000"/>
          <a:ext cx="5111640" cy="66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4383000"/>
                    <a:ext cx="51116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900000" y="3141720"/>
            <a:ext cx="705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hol </a:t>
            </a:r>
            <a:r>
              <a:rPr b="1" i="1" lang="en-US" sz="2400" spc="-1" strike="noStrike">
                <a:solidFill>
                  <a:srgbClr val="00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 kétjegyű természetes számok halm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második képlet szer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47640" y="5157720"/>
          <a:ext cx="4248360" cy="560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47640" y="5157720"/>
                    <a:ext cx="4248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684360" y="58770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ehát 60 számjegy nem osztható sem 5-tel sem 6-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Segoe Script"/>
              </a:rPr>
              <a:t>3. 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5e5ff"/>
                </a:solidFill>
                <a:latin typeface="Comic Sans MS"/>
              </a:rPr>
              <a:t>Egy osztály 30 tanulója angol és német nyelvet tanul, 20-an tanulnak angolt, 8-an mindkét nyelvet. Hányan tanulnak csak németet?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ff00"/>
                </a:solidFill>
                <a:latin typeface="Comic Sans MS"/>
              </a:rPr>
              <a:t>Csak németet tanul: 30-20= 10 tanuló, vagyis 10-en tartoznak a besatírozott részbe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3959280" cy="2013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3829320" cy="2003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0:33:46Z</dcterms:created>
  <dc:creator>LKG Szki</dc:creator>
  <dc:description/>
  <dc:language>en-US</dc:language>
  <cp:lastModifiedBy>TuZo</cp:lastModifiedBy>
  <dcterms:modified xsi:type="dcterms:W3CDTF">2012-11-04T18:27:02Z</dcterms:modified>
  <cp:revision>112</cp:revision>
  <dc:subject/>
  <dc:title>Logikai szita</dc:title>
</cp:coreProperties>
</file>